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342F-AAB3-4765-B0CB-3B69D76D2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64B2-9689-4471-87DC-FC50839BE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F777-FCB2-4352-82B8-D0DC98D7D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DB81-3440-4C52-A054-8A5BA880D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E12A3-700B-4839-B0CD-6EBE2F0E9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8831B-2279-4FB8-B9C0-D80050BDA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65F37-F801-4621-9831-2E57C30C4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9BDBB-8286-47DF-AD9D-7B879CFA3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B826A-970F-4C48-9073-F3F540893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1547D-0855-4816-8E9E-EA545D5B0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DD4FF-31B8-40C3-A36B-A634982F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9DB5-A757-4959-BD62-227561C14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5E075-FD2A-43ED-A510-EDEDC933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EC3B1-7D00-4B9F-B1E2-EEF2C335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D6F15-2015-44F2-85AC-E65C4F453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21032-F54C-4E94-AD6E-24C43D475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810CB-6A6E-4E07-8CCD-732276262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DE038-895B-4BD8-A236-8F55FB10B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AE27D-435B-4CBA-BDD9-7EEEAF846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8D702-80C3-481F-8CBB-0B0F9B01C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F9E90-40F2-497A-BA74-6386DB0D7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27AED-55FC-4F93-BDA1-53B137ED5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4D76-2028-44F0-A2DD-10C8341F2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49879-FEE1-43AF-BDD8-8DDE9ADD5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C0FDF-B0D4-40D4-91D7-742FBD2C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DE0AE-EF24-4C02-BE72-CFBE2CFB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3E21F-7B5D-4279-8AE0-0E0A59EC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ECE6B-B6CC-4FA0-90A3-12145A990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47624-D8A2-4BD4-ADF8-15B00D9F7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8143A-C186-4C76-80B4-FAE81DDAE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C9794-5951-4156-BE8F-7CF52EF41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36970-FFEF-42FA-AFCA-48D519CE6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70AC9-0CFC-474D-A20E-8BE05F723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20CB-9546-46D9-A390-516CCBB7B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25F2F-6CCE-4F9F-8159-F59EEFF49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BFEF1-0828-42C7-A348-48AF18062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1D3EE-5D51-4241-A113-D52FA92E5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14CFB-6EE0-4473-A223-C2314232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F2F31-AE63-4161-9800-EBE54D70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839AE-1B1E-47B3-8528-35B3DA64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D9319-C893-4C99-83D0-6715E26E4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BE878-4FD9-4B23-B2FD-AC4B42676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4983D-03A9-4443-8E34-36380E620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8825-F720-4D96-B4D9-84EB2086C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0B79-431C-4AF8-8E0F-A9D6FB1BE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49B2-0BA4-4C18-9359-A3190482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40D9-339B-4B51-B35A-6E450725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B72A-C86B-49BA-803E-D6797FB9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BB08E-F709-4FD9-A206-6161DB9EFD89}" type="slidenum">
              <a:rPr b="1" lang="cs-CZ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49B48-F971-415D-A5F9-2EC079369893}" type="slidenum">
              <a:rPr b="1" lang="cs-CZ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A5946-8C95-479D-B409-4C3E37BE6E2A}" type="slidenum">
              <a:rPr b="1" lang="cs-CZ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456FA-EC05-40BC-93A5-0076468F7E32}" type="slidenum">
              <a:rPr b="1" lang="cs-CZ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79280" y="134136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2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300"/>
                </a:solidFill>
                <a:latin typeface="Arial Black"/>
              </a:rPr>
              <a:t>V rámci OPŽP, Prioritní osy 2, Specifický cíl 2.1 (kotlíkové dotace) má být do roku 2020 UTRACENO 9 mld. Kč na výměnu starých kotlů na PP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300"/>
                </a:solidFill>
                <a:latin typeface="Arial Black"/>
              </a:rPr>
              <a:t>6,5 mld. na samotnou výměnu kotlů        2,5 mld. na administraci projektu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300"/>
                </a:solidFill>
                <a:latin typeface="Arial Black"/>
              </a:rPr>
              <a:t>     </a:t>
            </a:r>
            <a:r>
              <a:rPr b="1" lang="cs-CZ" sz="1400" spc="-1" strike="noStrike">
                <a:solidFill>
                  <a:srgbClr val="003300"/>
                </a:solidFill>
                <a:latin typeface="Arial"/>
                <a:ea typeface="Arial"/>
              </a:rPr>
              <a:t>na ověřování kvality podporovaných zdrojů je tedy dostatek financí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300"/>
                </a:solidFill>
                <a:latin typeface="Arial"/>
                <a:ea typeface="Arial"/>
              </a:rPr>
              <a:t>V případě nejasností okolo kvality podporovaného zdroje je v podkladech k Programu navržen následující postup (žádost o zápis do seznamu výrobků):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buClr>
                <a:srgbClr val="c3260c"/>
              </a:buClr>
              <a:buSzPct val="13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12745"/>
                </a:solidFill>
                <a:latin typeface="Calibri"/>
                <a:ea typeface="Times New Roman"/>
              </a:rPr>
              <a:t>jsem si vědom(a), že v případě podezření na nesplnění podmínek Programů, je Státní fond životního prostředí ČR (dále jen „Fond“) oprávněn vyžádat si jakékoliv další relevantní podklady k danému výrobku k nahlédnutí, a to včetně např. zkušebních protokolů, z nichž byly deklarované parametry převzaty, případně zadat provedení </a:t>
            </a:r>
            <a:r>
              <a:rPr b="1" lang="cs-CZ" sz="1600" spc="-1" strike="noStrike" u="sng">
                <a:solidFill>
                  <a:srgbClr val="ff0000"/>
                </a:solidFill>
                <a:uFillTx/>
                <a:latin typeface="Calibri"/>
                <a:ea typeface="Times New Roman"/>
              </a:rPr>
              <a:t>kontrolního posouzení výrobku v nezávislé akreditované zkušební laboratoři dle příslušných právních požadavků a norem platných pro daný typ výrobku. Bude-li porušení podmínek Programů prokázáno, bude zápis dotčeného výrobku zrušen a veškeré výlohy spojené s kontrolním posouzením výrobku budou vymáhány po žadateli o zápis výrobu do seznamu výrobků a technologií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Rectangle 2" descr=""/>
          <p:cNvPicPr/>
          <p:nvPr/>
        </p:nvPicPr>
        <p:blipFill>
          <a:blip r:embed="rId1"/>
          <a:stretch/>
        </p:blipFill>
        <p:spPr>
          <a:xfrm>
            <a:off x="469800" y="189000"/>
            <a:ext cx="82044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79280" y="1052640"/>
            <a:ext cx="878544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37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37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3300"/>
                </a:solidFill>
                <a:latin typeface="Arial"/>
                <a:ea typeface="Arial"/>
              </a:rPr>
              <a:t>Podle odhadu až 40 % podporovaných kotlů na PP zapsaných v SVT nesplňuje podmínky dotace, tedy požadavky dle „ekodesignu“.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37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37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3300"/>
                </a:solidFill>
                <a:latin typeface="Arial"/>
                <a:ea typeface="Arial"/>
              </a:rPr>
              <a:t>Řešen byl jeden exemplární příklad. Technologie využívaná i českými výrobci: ocelovo-litinový kotel se samočinnou dodávkou paliva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3300"/>
                </a:solidFill>
                <a:latin typeface="Arial Black"/>
              </a:rPr>
              <a:t>                                               </a:t>
            </a:r>
            <a:r>
              <a:rPr b="1" lang="cs-CZ" sz="1400" spc="-1" strike="noStrike">
                <a:solidFill>
                  <a:srgbClr val="003300"/>
                </a:solidFill>
                <a:latin typeface="Arial Black"/>
              </a:rPr>
              <a:t>- litinový prohořívací kotel + ocelový podstavec s                                                      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3300"/>
                </a:solidFill>
                <a:latin typeface="Arial Black"/>
              </a:rPr>
              <a:t>                                                 </a:t>
            </a:r>
            <a:r>
              <a:rPr b="1" lang="cs-CZ" sz="1400" spc="-1" strike="noStrike">
                <a:solidFill>
                  <a:srgbClr val="003300"/>
                </a:solidFill>
                <a:latin typeface="Arial Black"/>
              </a:rPr>
              <a:t>s hořákem na PP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3300"/>
                </a:solidFill>
                <a:latin typeface="Arial Black"/>
              </a:rPr>
              <a:t>                                               </a:t>
            </a:r>
            <a:r>
              <a:rPr b="1" lang="cs-CZ" sz="1400" spc="-1" strike="noStrike">
                <a:solidFill>
                  <a:srgbClr val="003300"/>
                </a:solidFill>
                <a:latin typeface="Arial Black"/>
              </a:rPr>
              <a:t>- zachovává si možnost spalovat v ručním režimu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3300"/>
                </a:solidFill>
                <a:latin typeface="Arial Black"/>
              </a:rPr>
              <a:t>                                               </a:t>
            </a:r>
            <a:r>
              <a:rPr b="1" lang="cs-CZ" sz="1400" spc="-1" strike="noStrike">
                <a:solidFill>
                  <a:srgbClr val="003300"/>
                </a:solidFill>
                <a:latin typeface="Arial Black"/>
              </a:rPr>
              <a:t>- minimální výměník, nemožnost integrovat       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3300"/>
                </a:solidFill>
                <a:latin typeface="Arial Black"/>
              </a:rPr>
              <a:t>                                                 </a:t>
            </a:r>
            <a:r>
              <a:rPr b="1" lang="cs-CZ" sz="1400" spc="-1" strike="noStrike">
                <a:solidFill>
                  <a:srgbClr val="003300"/>
                </a:solidFill>
                <a:latin typeface="Arial Black"/>
              </a:rPr>
              <a:t>dosatatečně velkou vydívku do spalovací komory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6600"/>
                </a:solidFill>
                <a:latin typeface="Arial Black"/>
              </a:rPr>
              <a:t>                                                </a:t>
            </a:r>
            <a:r>
              <a:rPr b="1" lang="cs-CZ" sz="1400" spc="-1" strike="noStrike">
                <a:solidFill>
                  <a:srgbClr val="003300"/>
                </a:solidFill>
                <a:latin typeface="Arial Black"/>
                <a:ea typeface="Arial"/>
              </a:rPr>
              <a:t>- u českých výrobců dosaženo maximálně třídy 4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3300"/>
                </a:solidFill>
                <a:latin typeface="Arial Black"/>
                <a:ea typeface="Arial"/>
              </a:rPr>
              <a:t>                                                </a:t>
            </a:r>
            <a:r>
              <a:rPr b="1" lang="cs-CZ" sz="1400" spc="-1" strike="noStrike">
                <a:solidFill>
                  <a:srgbClr val="003300"/>
                </a:solidFill>
                <a:latin typeface="Arial Black"/>
                <a:ea typeface="Arial"/>
              </a:rPr>
              <a:t>- zahraniční výrobce deklaruje ekodesign a byl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6600"/>
                </a:solidFill>
                <a:latin typeface="Arial Black"/>
              </a:rPr>
              <a:t>                                                  </a:t>
            </a:r>
            <a:r>
              <a:rPr b="1" lang="cs-CZ" sz="1400" spc="-1" strike="noStrike">
                <a:solidFill>
                  <a:srgbClr val="003300"/>
                </a:solidFill>
                <a:latin typeface="Arial Black"/>
              </a:rPr>
              <a:t>zapsán do SVT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6600"/>
                </a:solidFill>
                <a:latin typeface="Trebuchet MS"/>
              </a:rPr>
              <a:t>      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7" name="Rectangle 2" descr=""/>
          <p:cNvPicPr/>
          <p:nvPr/>
        </p:nvPicPr>
        <p:blipFill>
          <a:blip r:embed="rId2"/>
          <a:stretch/>
        </p:blipFill>
        <p:spPr>
          <a:xfrm>
            <a:off x="469800" y="158760"/>
            <a:ext cx="8204400" cy="10368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"/>
          <p:cNvPicPr/>
          <p:nvPr/>
        </p:nvPicPr>
        <p:blipFill>
          <a:blip r:embed="rId3"/>
          <a:stretch/>
        </p:blipFill>
        <p:spPr>
          <a:xfrm>
            <a:off x="250920" y="2565360"/>
            <a:ext cx="247788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179280" y="119664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00"/>
                </a:solidFill>
                <a:latin typeface="Arial"/>
                <a:ea typeface="Arial"/>
              </a:rPr>
              <a:t>Byl podán podnět na SFŽP, po několika urgencích Fond zakoupil kotel a v souladu se schváleným postupem nechal provést zkoušku u české akreditované laboratoře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00"/>
                </a:solidFill>
                <a:latin typeface="Arial"/>
                <a:ea typeface="Arial"/>
              </a:rPr>
              <a:t>Zkoumaný kotel má jako hlavní palivo uvedeno </a:t>
            </a:r>
            <a:r>
              <a:rPr b="1" lang="cs-CZ" sz="1800" spc="-1" strike="noStrike">
                <a:solidFill>
                  <a:srgbClr val="003300"/>
                </a:solidFill>
                <a:latin typeface="Arial"/>
                <a:ea typeface="Arial"/>
              </a:rPr>
              <a:t>černé uhlí, doplňková paliva hnědé uhlí a dřevní pelet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6600"/>
                </a:solidFill>
                <a:latin typeface="Trebuchet MS"/>
              </a:rPr>
              <a:t>     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6600"/>
                </a:solidFill>
                <a:latin typeface="Trebuchet MS"/>
              </a:rPr>
              <a:t>     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00"/>
                </a:solidFill>
                <a:latin typeface="Arial"/>
                <a:ea typeface="Arial"/>
              </a:rPr>
              <a:t>Výledky : u žádného paliva nebyly splněny požadavky na ekodesig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300"/>
                </a:solidFill>
                <a:latin typeface="Trebuchet MS"/>
              </a:rPr>
              <a:t>              </a:t>
            </a:r>
            <a:r>
              <a:rPr b="0" lang="cs-CZ" sz="2000" spc="-1" strike="noStrike">
                <a:solidFill>
                  <a:srgbClr val="003300"/>
                </a:solidFill>
                <a:latin typeface="Arial"/>
                <a:ea typeface="Arial"/>
              </a:rPr>
              <a:t>u hnědého uhlí a dřevních pelet potvrzena třída 3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00"/>
                </a:solidFill>
                <a:latin typeface="Arial"/>
                <a:ea typeface="Arial"/>
              </a:rPr>
              <a:t>               </a:t>
            </a:r>
            <a:r>
              <a:rPr b="0" lang="cs-CZ" sz="2000" spc="-1" strike="noStrike">
                <a:solidFill>
                  <a:srgbClr val="003300"/>
                </a:solidFill>
                <a:latin typeface="Arial"/>
                <a:ea typeface="Arial"/>
              </a:rPr>
              <a:t>u černého uhlí  nesplněna třída 3 (podmínka pro uvedení na trh) </a:t>
            </a:r>
            <a:r>
              <a:rPr b="0" lang="cs-CZ" sz="2000" spc="-1" strike="noStrike">
                <a:solidFill>
                  <a:srgbClr val="006600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0" name="Rectangle 2" descr=""/>
          <p:cNvPicPr/>
          <p:nvPr/>
        </p:nvPicPr>
        <p:blipFill>
          <a:blip r:embed="rId2"/>
          <a:stretch/>
        </p:blipFill>
        <p:spPr>
          <a:xfrm>
            <a:off x="469800" y="158760"/>
            <a:ext cx="8204400" cy="1036800"/>
          </a:xfrm>
          <a:prstGeom prst="rect">
            <a:avLst/>
          </a:prstGeom>
          <a:ln w="0">
            <a:noFill/>
          </a:ln>
        </p:spPr>
      </p:pic>
      <p:pic>
        <p:nvPicPr>
          <p:cNvPr id="221" name="Obrázek 3" descr=""/>
          <p:cNvPicPr/>
          <p:nvPr/>
        </p:nvPicPr>
        <p:blipFill>
          <a:blip r:embed="rId3"/>
          <a:stretch/>
        </p:blipFill>
        <p:spPr>
          <a:xfrm>
            <a:off x="1008000" y="2924280"/>
            <a:ext cx="724716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179280" y="119664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2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300"/>
                </a:solidFill>
                <a:latin typeface="Arial"/>
                <a:ea typeface="Arial"/>
              </a:rPr>
              <a:t>Fond ustoupil od deklarovaného postupu (v té době bylo podáno cca 4 tisíce žádostí na zmíněný kotel) a vyzval výrobce, aby doložil splnění požadavků na ekodesign od třetí autorizované osoby.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300"/>
                </a:solidFill>
                <a:latin typeface="Arial"/>
                <a:ea typeface="Arial"/>
              </a:rPr>
              <a:t>Výrobce v požadovaném termínu dodal osvědčení o splnění podmínek (doklad formátu 1 x A4 bez přiložení zkušebního protokolu) pouze pro doplňková paliva (hnědé uhlí a dřevní pelety), pro preferenční palivo černé uhlí doklad nepředložil a byla mu udělen  odklad do konce roku. Doklad vypracoval zkušebna v Polsku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300"/>
                </a:solidFill>
                <a:latin typeface="Arial"/>
                <a:ea typeface="Arial"/>
              </a:rPr>
              <a:t>Argument MŽP : nemáme specialisty na řešení problému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300"/>
                </a:solidFill>
                <a:latin typeface="Arial"/>
                <a:ea typeface="Arial"/>
              </a:rPr>
              <a:t>Splnění podmínek ekodesignu spadá do kompetence SEI (ukládá jí to zákon 406/2000 o hospodaření energií). SEI na podaný podnět nereaguje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3" name="Rectangle 2" descr=""/>
          <p:cNvPicPr/>
          <p:nvPr/>
        </p:nvPicPr>
        <p:blipFill>
          <a:blip r:embed="rId1"/>
          <a:stretch/>
        </p:blipFill>
        <p:spPr>
          <a:xfrm>
            <a:off x="469800" y="158760"/>
            <a:ext cx="8204400" cy="10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179280" y="119664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2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6600"/>
                </a:solidFill>
                <a:latin typeface="Arial Black"/>
              </a:rPr>
              <a:t>Pro druhé kolo je zapotřebí vyřešit dva základní problémy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6600"/>
                </a:solidFill>
                <a:latin typeface="Arial Black"/>
              </a:rPr>
              <a:t>1. Jak bude postupováno v obdobných případech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6600"/>
                </a:solidFill>
                <a:latin typeface="Arial Black"/>
              </a:rPr>
              <a:t>2. Je vůbec možné podporovat technologii, která umožňuj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6600"/>
                </a:solidFill>
                <a:latin typeface="Arial Black"/>
              </a:rPr>
              <a:t>    </a:t>
            </a:r>
            <a:r>
              <a:rPr b="1" lang="cs-CZ" sz="2000" spc="-1" strike="noStrike">
                <a:solidFill>
                  <a:srgbClr val="006600"/>
                </a:solidFill>
                <a:latin typeface="Arial Black"/>
              </a:rPr>
              <a:t>spalovat domovní odpady?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5" name="Rectangle 2" descr=""/>
          <p:cNvPicPr/>
          <p:nvPr/>
        </p:nvPicPr>
        <p:blipFill>
          <a:blip r:embed="rId1"/>
          <a:stretch/>
        </p:blipFill>
        <p:spPr>
          <a:xfrm>
            <a:off x="469800" y="158760"/>
            <a:ext cx="8204400" cy="10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20:59:26Z</dcterms:created>
  <dc:creator>Katka</dc:creator>
  <dc:description/>
  <dc:language>en-US</dc:language>
  <cp:lastModifiedBy>Microsoft</cp:lastModifiedBy>
  <cp:lastPrinted>2015-05-18T10:37:43Z</cp:lastPrinted>
  <dcterms:modified xsi:type="dcterms:W3CDTF">2016-10-10T11:32:39Z</dcterms:modified>
  <cp:revision>36</cp:revision>
  <dc:subject/>
  <dc:title>Kateřina Lyčková</dc:title>
</cp:coreProperties>
</file>