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92D0-D1FD-4196-A0D8-82D2E6F9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44F-9EEC-44C9-8916-7BBF1D97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ADB4-E6B8-44AA-B620-3660025B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5E4-F4D4-40AC-B5BD-0B825212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08D5-F618-49DF-A094-A32E5C89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AD51-C5AA-4E89-87C9-6405C775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7716-7290-4EC6-9886-8AEED78B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C883-9AC7-49D2-BFEA-D3E0B493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6268-BF2D-4A72-8140-83BC0D70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4539-C41B-41BA-B7E2-D9A6FCBB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79DE-5899-4107-8891-0FE8D3F0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31C-427F-46A4-8178-C1C95338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A586-7918-4A2C-93EF-42BC34AE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E348-E7AF-4BE3-82FC-0181E121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F820-AC39-42F3-BBC1-20FA8D81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D4E5-48C6-4563-B8C8-BDADE6F2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0CA6-6958-47B3-B8C5-4300A963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7A3CC-D38E-4876-AD63-62DCCD89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AF34F-EB0C-4EC0-AD00-B0510A30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16C8B-5B1F-4364-AC9D-5797BF50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9B7C3-375C-4E0D-8B43-74094A84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D2898-550D-4236-9B8F-96CA9CE6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2CA-1F4E-419E-8C03-58B55242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3A498-9976-4A0E-8990-A4E774C1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0000E-2B8D-4348-B6B9-D45EF94A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1D287-D394-4880-BBCF-13D3D0B2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1E158-3D10-4553-B192-31BC09D4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E9567-9DC6-4CBD-91D7-DD876E7D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8C7A7-A913-4A6B-97D8-B4382E2A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41B0F-DC49-47DE-9F28-E96147EC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63A23-317D-4F99-8D05-ADA6F4A0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F19D3-893D-4B67-BD58-7C153BDD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BF146-F797-4E2E-841C-B4F59FBF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B27F-8DC9-4E8B-823C-A1222848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6394-D13B-47CB-B781-FEC4C6AD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B7F49-EDEF-4671-A4EE-5BC9B1E5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80BFB-CB3F-4E08-89B4-E33F22C5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E609A-7885-43FB-AFD4-27BF92D0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D7268-C15A-4CC8-9C38-96414448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5B315-7FF5-40A9-8DDB-F465DA36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DEE25-7487-4893-927A-17173B53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2EB77-98F3-4F5A-BF06-63CB3B07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5BC36-0D30-41D4-AAB5-938EBE94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CC6-4529-496B-850B-48877C1A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EF81-D11B-4A66-BAD9-7D92A219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B5B-3E08-4859-A754-0A1CFFF0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F61-2369-4BD7-AA91-65D2198E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2633-3546-434C-8604-AC23AC48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D457-9EE2-48F4-9135-EB6DF37902ED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D229-23D6-4326-96F0-AAC74CC6A97E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8A3C-565B-4960-AC72-D00D56F6A9CB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B16C-64E1-4657-AFE2-0D7DCD4D592F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 Black"/>
              </a:rPr>
              <a:t>V rámci OPŽP, Prioritní osy 2, Specifický cíl 2.1 (kotlíkové dotace) má být do roku 2020 UTRACENO 9 mld. Kč na výměnu starých kotlů na PP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 Black"/>
              </a:rPr>
              <a:t>6,5 mld. na samotnou výměnu kotlů        2,5 mld. na administraci projektu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 Black"/>
              </a:rPr>
              <a:t>     </a:t>
            </a:r>
            <a:r>
              <a:rPr b="1" lang="cs-CZ" sz="1400" spc="-1" strike="noStrike">
                <a:solidFill>
                  <a:srgbClr val="003300"/>
                </a:solidFill>
                <a:latin typeface="Arial"/>
                <a:ea typeface="Arial"/>
              </a:rPr>
              <a:t>na ověřování kvality podporovaných zdrojů je tedy dostatek financí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V případě nejasností okolo kvality podporovaného zdroje je v podkladech k Programu navržen následující postup (žádost o zápis do seznamu výrobků)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c3260c"/>
              </a:buClr>
              <a:buSzPct val="13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12745"/>
                </a:solidFill>
                <a:latin typeface="Calibri"/>
                <a:ea typeface="Times New Roman"/>
              </a:rPr>
              <a:t>jsem si vědom(a), že v případě podezření na nesplnění podmínek Programů, je Státní fond životního prostředí ČR (dále jen „Fond“) oprávněn vyžádat si jakékoliv další relevantní podklady k danému výrobku k nahlédnutí, a to včetně např. zkušebních protokolů, z nichž byly deklarované parametry převzaty, případně zadat provedení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kontrolního posouzení výrobku v nezávislé akreditované zkušební laboratoři dle příslušných právních požadavků a norem platných pro daný typ výrobku. Bude-li porušení podmínek Programů prokázáno, bude zápis dotčeného výrobku zrušen a veškeré výlohy spojené s kontrolním posouzením výrobku budou vymáhány po žadateli o zápis výrobu do seznamu výrobků a technologií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04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785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3300"/>
                </a:solidFill>
                <a:latin typeface="Arial"/>
                <a:ea typeface="Arial"/>
              </a:rPr>
              <a:t>Podle odhadu až 40 % podporovaných kotlů na PP zapsaných v SVT nesplňuje podmínky dotace, tedy požadavky dle „ekodesignu“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3300"/>
                </a:solidFill>
                <a:latin typeface="Arial"/>
                <a:ea typeface="Arial"/>
              </a:rPr>
              <a:t>Řešen byl jeden exemplární příklad. Technologie využívaná i českými výrobci: ocelovo-litinový kotel se samočinnou dodávkou paliva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- litinový prohořívací kotel + ocelový podstavec s                                                      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s hořákem na PP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- zachovává si možnost spalovat v ručním režimu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- minimální výměník, nemožnost integrovat       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dosatatečně velkou vydívku do spalovací komory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6600"/>
                </a:solidFill>
                <a:latin typeface="Arial Black"/>
              </a:rPr>
              <a:t>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  <a:ea typeface="Arial"/>
              </a:rPr>
              <a:t>- u českých výrobců dosaženo maximálně třídy 4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  <a:ea typeface="Arial"/>
              </a:rPr>
              <a:t>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  <a:ea typeface="Arial"/>
              </a:rPr>
              <a:t>- zahraniční výrobce deklaruje ekodesign a by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6600"/>
                </a:solidFill>
                <a:latin typeface="Arial Black"/>
              </a:rPr>
              <a:t>  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zapsán do SV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6600"/>
                </a:solidFill>
                <a:latin typeface="Trebuchet MS"/>
              </a:rPr>
              <a:t>  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Rectangle 2" descr=""/>
          <p:cNvPicPr/>
          <p:nvPr/>
        </p:nvPicPr>
        <p:blipFill>
          <a:blip r:embed="rId2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24778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00"/>
                </a:solidFill>
                <a:latin typeface="Arial"/>
                <a:ea typeface="Arial"/>
              </a:rPr>
              <a:t>Byl podán podnět na SFŽP, po několika urgencích Fond zakoupil kotel a v souladu se schváleným postupem nechal provést zkoušku u české akreditované laboratoř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00"/>
                </a:solidFill>
                <a:latin typeface="Arial"/>
                <a:ea typeface="Arial"/>
              </a:rPr>
              <a:t>Zkoumaný kotel má jako hlavní palivo uvedeno </a:t>
            </a:r>
            <a:r>
              <a:rPr b="1" lang="cs-CZ" sz="1800" spc="-1" strike="noStrike">
                <a:solidFill>
                  <a:srgbClr val="003300"/>
                </a:solidFill>
                <a:latin typeface="Arial"/>
                <a:ea typeface="Arial"/>
              </a:rPr>
              <a:t>černé uhlí, doplňková paliva hnědé uhlí a dřevní pele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Trebuchet MS"/>
              </a:rPr>
              <a:t>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Trebuchet MS"/>
              </a:rPr>
              <a:t>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Výledky : u žádného paliva nebyly splněny požadavky na ekodesig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00"/>
                </a:solidFill>
                <a:latin typeface="Trebuchet MS"/>
              </a:rPr>
              <a:t>              </a:t>
            </a: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u hnědého uhlí a dřevních pelet potvrzena třída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               </a:t>
            </a: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u černého uhlí  nesplněna třída 3 (podmínka pro uvedení na trh) </a:t>
            </a:r>
            <a:r>
              <a:rPr b="0" lang="cs-CZ" sz="2000" spc="-1" strike="noStrike">
                <a:solidFill>
                  <a:srgbClr val="0066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  <p:pic>
        <p:nvPicPr>
          <p:cNvPr id="221" name="Obrázek 3" descr=""/>
          <p:cNvPicPr/>
          <p:nvPr/>
        </p:nvPicPr>
        <p:blipFill>
          <a:blip r:embed="rId3"/>
          <a:stretch/>
        </p:blipFill>
        <p:spPr>
          <a:xfrm>
            <a:off x="1008000" y="2924280"/>
            <a:ext cx="72471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Fond ustoupil od deklarovaného postupu (v té době bylo podáno cca 4 tisíce žádostí na zmíněný kotel) a vyzval výrobce, aby doložil splnění požadavků na ekodesign od třetí autorizované osoby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Výrobce v požadovaném termínu dodal osvědčení o splnění podmínek (doklad formátu 1 x A4 bez přiložení zkušebního protokolu) pouze pro doplňková paliva (hnědé uhlí a dřevní pelety), pro preferenční palivo černé uhlí doklad nepředložil a byla mu udělen  odklad do konce roku. Doklad vypracoval zkušebna v Polsku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Argument MŽP : nemáme specialisty na řešení problému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Splnění podmínek ekodesignu spadá do kompetence SEI (ukládá jí to zákon 406/2000 o hospodaření energií). SEI na podaný podnět nereaguje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Pro druhé kolo je zapotřebí vyřešit dva základní problémy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1. Jak bude postupováno v obdobných případe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2. Je vůbec možné podporovat technologii, která umožňuj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    </a:t>
            </a: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spalovat domovní odpady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20:59:26Z</dcterms:created>
  <dc:creator>Katka</dc:creator>
  <dc:description/>
  <dc:language>en-US</dc:language>
  <cp:lastModifiedBy>Microsoft</cp:lastModifiedBy>
  <cp:lastPrinted>2015-05-18T10:37:43Z</cp:lastPrinted>
  <dcterms:modified xsi:type="dcterms:W3CDTF">2016-10-10T11:32:39Z</dcterms:modified>
  <cp:revision>36</cp:revision>
  <dc:subject/>
  <dc:title>Kateřina Lyčková</dc:title>
</cp:coreProperties>
</file>