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2F0-EF2F-45CB-83B0-280FCCC8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966-F403-4180-9475-B3485C47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F08-24DC-454D-BE8F-C6069614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514-AF60-4923-8888-49D8A5A5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7D7-6FED-4B81-808B-C0BA290C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496-13D1-4AFD-9DA2-A49E5ADD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47E-3619-4EA8-86FC-6A11D4C3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9DB-F9BA-44AF-BC0F-AE213F66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A52-98C7-482C-8965-A348C82F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6E4-D4A2-40D5-9217-B7B0AF30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310-79E5-481C-AAA7-0083E085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F1A-7CC2-4D3E-B8E6-377ED917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8b8d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F6F6-DCD7-4C50-B87D-9C265CC2B8B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Materiálové porovnání otopných soust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Dr Ing. Petr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971640" y="1484280"/>
          <a:ext cx="7208640" cy="48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720864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755640" y="1484280"/>
          <a:ext cx="756432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56432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826920" y="1557360"/>
          <a:ext cx="75646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56468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342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ff33"/>
                </a:solidFill>
                <a:latin typeface="Arial"/>
              </a:rPr>
              <a:t>Petr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3" descr="2.NPd.jpg"/>
          <p:cNvPicPr/>
          <p:nvPr/>
        </p:nvPicPr>
        <p:blipFill>
          <a:blip r:embed="rId1"/>
          <a:stretch/>
        </p:blipFill>
        <p:spPr>
          <a:xfrm>
            <a:off x="250920" y="1268280"/>
            <a:ext cx="869292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1.NPd.jpg"/>
          <p:cNvPicPr/>
          <p:nvPr/>
        </p:nvPicPr>
        <p:blipFill>
          <a:blip r:embed="rId1"/>
          <a:stretch/>
        </p:blipFill>
        <p:spPr>
          <a:xfrm>
            <a:off x="755640" y="1285920"/>
            <a:ext cx="7883640" cy="5572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sché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ázek 3" descr="Schemad.jpg"/>
          <p:cNvPicPr/>
          <p:nvPr/>
        </p:nvPicPr>
        <p:blipFill>
          <a:blip r:embed="rId1"/>
          <a:srcRect l="0" t="11170" r="0" b="0"/>
          <a:stretch/>
        </p:blipFill>
        <p:spPr>
          <a:xfrm>
            <a:off x="539640" y="1557360"/>
            <a:ext cx="809964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3" descr="2.NPc.jpg"/>
          <p:cNvPicPr/>
          <p:nvPr/>
        </p:nvPicPr>
        <p:blipFill>
          <a:blip r:embed="rId1"/>
          <a:stretch/>
        </p:blipFill>
        <p:spPr>
          <a:xfrm>
            <a:off x="611280" y="1235160"/>
            <a:ext cx="7956360" cy="5622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3" descr="1.NPc.jpg"/>
          <p:cNvPicPr/>
          <p:nvPr/>
        </p:nvPicPr>
        <p:blipFill>
          <a:blip r:embed="rId1"/>
          <a:stretch/>
        </p:blipFill>
        <p:spPr>
          <a:xfrm>
            <a:off x="755640" y="1268280"/>
            <a:ext cx="7667640" cy="541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</a:t>
            </a:r>
            <a:br>
              <a:rPr sz="4000"/>
            </a:b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požadavek invest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3" descr="Clanek.jpg"/>
          <p:cNvPicPr/>
          <p:nvPr/>
        </p:nvPicPr>
        <p:blipFill>
          <a:blip r:embed="rId1"/>
          <a:srcRect l="0" t="6674" r="0" b="0"/>
          <a:stretch/>
        </p:blipFill>
        <p:spPr>
          <a:xfrm>
            <a:off x="826920" y="1700280"/>
            <a:ext cx="759636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Jednotrubková 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ázek 3" descr="2.NPj.jpg"/>
          <p:cNvPicPr/>
          <p:nvPr/>
        </p:nvPicPr>
        <p:blipFill>
          <a:blip r:embed="rId1"/>
          <a:stretch/>
        </p:blipFill>
        <p:spPr>
          <a:xfrm>
            <a:off x="900000" y="1413000"/>
            <a:ext cx="7523280" cy="5317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Jednotrubková 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1.NPj.jpg"/>
          <p:cNvPicPr/>
          <p:nvPr/>
        </p:nvPicPr>
        <p:blipFill>
          <a:blip r:embed="rId1"/>
          <a:stretch/>
        </p:blipFill>
        <p:spPr>
          <a:xfrm>
            <a:off x="826920" y="1387440"/>
            <a:ext cx="7740720" cy="547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6:11:35Z</dcterms:created>
  <dc:creator>.</dc:creator>
  <dc:description/>
  <dc:language>en-US</dc:language>
  <cp:lastModifiedBy>user</cp:lastModifiedBy>
  <dcterms:modified xsi:type="dcterms:W3CDTF">2016-10-06T18:41:36Z</dcterms:modified>
  <cp:revision>24</cp:revision>
  <dc:subject/>
  <dc:title>JEDNOTRUBKA A PODLAHOVÉ VYTÁPĚNÍ</dc:title>
</cp:coreProperties>
</file>