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A7E-3C2E-47F3-ABE1-FA3C9E32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1A3-F780-4DF0-B941-BCE3F7F9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A94-7034-4840-B272-C196EE1B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6EF-C707-4DED-AE79-90AB20E9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BC8-A8A4-49AC-8DD6-FA62C5BA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4E4-B3B6-485D-B2CA-B02811B5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F44-454D-4D1C-A1E9-42F56C0B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C19-AA0A-474D-8934-01713371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0E7-1D82-4FF6-8640-5FEF523F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330-6F87-4DBA-A481-A3BD0A2D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25A-F4F7-43B5-8A42-EF2F468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9C2-0FD1-432D-B7E5-AF711A3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D6D3-3B1A-418E-88B7-45672020A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836640"/>
            <a:ext cx="8713800" cy="4032360"/>
          </a:xfrm>
          <a:prstGeom prst="rect">
            <a:avLst/>
          </a:prstGeom>
          <a:solidFill>
            <a:srgbClr val="0000cc"/>
          </a:solidFill>
          <a:ln w="572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ěkteré poznatk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z </a:t>
            </a:r>
            <a:br>
              <a:rPr sz="5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omerčního)</a:t>
            </a:r>
            <a:br>
              <a:rPr sz="28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ěření ITN</a:t>
            </a:r>
            <a:br>
              <a:rPr sz="8000"/>
            </a:br>
            <a:br>
              <a:rPr sz="9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7040" y="5445000"/>
            <a:ext cx="306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uděk Mare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SI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ludek.mares@fs.cvu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549360"/>
            <a:ext cx="78483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977080" cy="375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080" y="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MĚŘENÍ INDIKÁTORU V KALORIMETRICKÉ KOMO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280" y="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ÁZNAM TEPLOT BĚHEM MĚŘENÍ - KVALITNÍ INDIKÁ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8160" y="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KVALITNÍ INDIKÁTOR – NESPLŇUJE PŘEDEPSANÉ „c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0"/>
            <a:ext cx="79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UMÍSTĚNÝ V OBLASTI VYSOKÉ POVRCHOVÉ TEPLOT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400" y="0"/>
            <a:ext cx="78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 ČSN EN 83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ísto instalace musí být tam, kde teplonosná látka prošla od 20 % do 3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celkové aktivní otopné plochy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49920" y="3213000"/>
            <a:ext cx="2494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67280" y="1844640"/>
            <a:ext cx="1225440" cy="792360"/>
          </a:xfrm>
          <a:prstGeom prst="ellipse">
            <a:avLst/>
          </a:prstGeom>
          <a:noFill/>
          <a:ln w="3816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43160" y="907920"/>
            <a:ext cx="4921200" cy="521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24720" y="0"/>
            <a:ext cx="50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OROVÁNÍ“ OBJEDNATELE S UMÍST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EVYCHÁZEL SOUČINITEL „c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560" y="0"/>
            <a:ext cx="37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EXTERNÍM SEZ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JE OVLIVNĚ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ÁLÁN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TĚN MÍ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2000" cy="519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80000" y="0"/>
            <a:ext cx="356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98040" y="333360"/>
            <a:ext cx="53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Vavřička, R.: Povrchová teplota deskových OT, in: Topin 2/20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76320"/>
            <a:ext cx="9144000" cy="588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576360"/>
            <a:ext cx="66978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240" y="1700280"/>
            <a:ext cx="862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VODY PRO STANOVOVÁNÍ SPOTŘEBOVANÉHO TE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DNOTLIVÝMI BYTY V BYTOVÝCH DOM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SPRAVEDLIVÉ ROZÚČTOVÁNÍ NÁKLADŮ NA VYTÁP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ÚSPORY TEPLA („když platím podle toho co spotřebuji, tak šetřím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602136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9440" y="835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VĚ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280" y="1844640"/>
            <a:ext cx="71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OVENÍ SPOTŘEBY TEPLA POUŽIT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OVLIVNĚNO MNOHA OBTÍŽNĚ PODCHYTITELNÝMI FA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ZATÍŽENO ŘADOU NEZANEDBATELNÝCH CHY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68360" y="2997360"/>
                <a:ext cx="4032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96360" y="0"/>
            <a:ext cx="73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TEPLONOSNOU LÁT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6360" y="558972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NELZE POUŽÍT U VERTIKÁLNÍ SOUSTAV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00000" y="1989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080" y="162864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ŮST SPOTŘEBNÍ HODNOTY 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6922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ANÉ TE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9280" y="981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79280" y="1125360"/>
            <a:ext cx="792360" cy="432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69440" y="134136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YCHLOST ZÁZN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718160" y="335772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HODNOCOVACÍ SOUČIN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ÁKLADŮ NA VYTÁP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 TEPELNÝ STYK SNÍMAČ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96360" y="314172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INITEL „c“ INDIKÁT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YJADŘUJE JAK SE TEPL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ĚŘENÉ INDIKÁ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BLIŽUJÍ SKUTEČNÝ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56000" y="3213000"/>
                <a:ext cx="1655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222640"/>
            <a:ext cx="5688000" cy="2442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2781360"/>
            <a:ext cx="431640" cy="431640"/>
          </a:xfrm>
          <a:prstGeom prst="ellipse">
            <a:avLst/>
          </a:prstGeom>
          <a:noFill/>
          <a:ln w="284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720" y="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EPSANÉ UMÍSTĚNÍ INDIKÁTORU 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981000"/>
            <a:ext cx="309708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7440" y="1432080"/>
            <a:ext cx="2011680" cy="356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26160" y="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DVOUČIDLOVÉHO INDIKÁ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5560" y="1628640"/>
            <a:ext cx="542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OKY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DOBRÝ DOTYK SENZORU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EPLOTNÍ ODIZOLOVÁNÍ SENZORU VZD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ČASOVOU STÁLOST SENZ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ŘESNOU ELEKTRO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RVANLIVOST BA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0:25:39Z</dcterms:created>
  <dc:creator>Luděk Mareš</dc:creator>
  <dc:description/>
  <dc:language>en-US</dc:language>
  <cp:lastModifiedBy>L</cp:lastModifiedBy>
  <dcterms:modified xsi:type="dcterms:W3CDTF">2016-10-13T19:26:37Z</dcterms:modified>
  <cp:revision>55</cp:revision>
  <dc:subject/>
  <dc:title>Snímek 1</dc:title>
</cp:coreProperties>
</file>