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A4A-BCFA-4DE7-B97E-61765CA5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A9C-5538-4F7D-AC28-55DC5CE6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57F-0D99-4DA8-B253-C6933A5A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0F9-80AB-4BA7-B07D-EE8ACB77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DE4E-157C-43B4-AF6E-C6D10883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9045-BF38-4B1B-B367-5BB0F9B4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ED4F-D70D-4CF6-98B5-34DE00CB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7765-86A0-4E8D-BAFC-B24F3DC4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3190-6FB5-467B-BFC1-F81544C1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F46A-902B-46EA-881F-D3244319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8445-87B3-49AC-B3A7-16873E04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05F-2055-4ABE-8A5F-F20CAD29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9336-936E-4576-9EF3-F5384B8F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BBB7-346E-49A0-A077-8009DDA4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687D-B109-438A-8C0A-217E5FB9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F125-696E-44BF-81A5-E6E424FD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6AFE-22CC-4EA7-93C8-BE4D29FD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DCE-1B54-44D8-9C3B-E2926A01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A5F-2DB7-4C41-8943-85E2A827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0FE3-9F14-48A7-8D40-6D522CD7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897-B975-4431-89D3-B7AF83FC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D8F-20E4-4594-9D57-2C3956BA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1B8-6643-48BA-9869-8B27A68A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296-15A4-49EA-BE18-52530677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51C3-20D6-4CC5-8950-F19730ADC6C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5E04-B933-439F-8009-755A1AA005AD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ng. Miroslav Kučera, Ph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akulta strojní ČVUT v Pra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stav techniky prostřed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mail: miroslav.kucera@fs.cvut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50920" y="2276640"/>
            <a:ext cx="8280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ovela § 77 zákona č. 258/2000 Sb., o ochraně veřejného zdrav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Neprovede-li stavebník dostatečná opatření k ochraně před hlukem, nemůže žádat, aby tato opatření provedl provozovatel, vlastník nebo správce zdroje hluku. To neplatí, dojde-li k prokazatelnému navýšení hluku ze zdroje hluku; co se považuje za prokazatelné navýšení hluku, stanoví prováděcí právní předpi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rovozovatele zdroje hluku pokud byl v území první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prokazatelném nárůstu hlučnosti zdroje, úpravy leží na provozovateli zdroj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vrh stavebníka na odloženou realizaci protihlukové ochrany chráněné stavby do doby realizace plánované výstavby např. pozemní komunikace, nelze akceptova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611280" y="112536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ochraně zdraví před nepříznivými účinky hluku a vibr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lo novelizováno a je platné ve znění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bdélník 1"/>
          <p:cNvSpPr/>
          <p:nvPr/>
        </p:nvSpPr>
        <p:spPr>
          <a:xfrm>
            <a:off x="611280" y="172080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ionární zdroje hluku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jso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vby, objekty, provozovny, nepohybující se stroje a zařízení pevně fixované na své místo nebo ty, jejichž akční rádius je při pracovním nasazení omezen…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ionární zdroje hluku se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nejso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droje související s činnostmi spojenými s běžným užíváním bytu, bytového domu, rodinného domu, stavby pro rodinnou rekreaci a pozemků k nim náležejících,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s výjimkou zařízení pro větrání a vytápě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řízení, která jsou nedílnou součástí stavb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řízení kolaudována se stavbo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y pro chráněné prostory zůstávají    50/40  a 40/30 d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zení - klimatizace (chladí a netopí) - kolaudace – stac. zdroj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nesena dodatečně – sousedský hlu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Obdélník 1"/>
          <p:cNvSpPr/>
          <p:nvPr/>
        </p:nvSpPr>
        <p:spPr>
          <a:xfrm>
            <a:off x="611280" y="1720800"/>
            <a:ext cx="799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orem významným z hlediska pronikání hluku je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s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řed výplní otvoru obvodového pláště stavby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zajišťující přímé přirozené větr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a níž se nachází chráněný vnitřní prostor stavby,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ku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nto chráněný prostor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elze přímo větrat jina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ětrání tlumenými štěrbinami na fasádě je povolen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or nelze provětrávat přes sousední místnos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na mohou být otevíratelná avšak při jejich uzavření musí být splněn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gienický lim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Obdélník 1"/>
          <p:cNvSpPr/>
          <p:nvPr/>
        </p:nvSpPr>
        <p:spPr>
          <a:xfrm>
            <a:off x="539640" y="1720800"/>
            <a:ext cx="80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prokazatelné navýšení  hluku zdroje se považuje  navýšení větší než 2 d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ze považovat za hodnotitelnou změnu rozdíl v intervalu 0,1 až 0,9 d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nění hygienického limitu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258920" y="4581360"/>
            <a:ext cx="5184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7" name="Objekt 3"/>
          <p:cNvGraphicFramePr/>
          <p:nvPr/>
        </p:nvGraphicFramePr>
        <p:xfrm>
          <a:off x="1692360" y="4348080"/>
          <a:ext cx="520056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k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348080"/>
                    <a:ext cx="52005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539640" y="285264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rgán ochrany veřejného zdraví je dotčeným správním úřadem při rozhodování ve věcech upravených zvláštními právními předpisy </a:t>
            </a:r>
            <a:r>
              <a:rPr b="0" i="1" lang="cs-CZ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2)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eré se dotýkají zájmů chráněných orgánem ochrany veřejného zdraví podle tohoto zákona a zvláštních právních předpisů včetně hodnocení a řízení zdravotních rizik.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rgán ochrany veřejného zdraví vydává v těchto věcech stanovisko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uhlas může orgán ochrany veřejného zdraví vázat na splnění podmínek. Stanovisko není rozhodnutím vydaným ve správním řízen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hledisek stavebního zákona jde zejména o problematiku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chrany před hlukem, vibracemi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ionizujícím záření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 případě, že je v platné územně plánovací dokumentaci uveden záměr, u kterého lze důvodně předpokládat, že bude po uvedení do provozu zdrojem hluku nebo vibrací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ejména z provozu na pozemních komunikacích nebo železničních drahách,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elze ke stavbě, která by mohla být tímto hlukem či vibracemi dotčena, vydat kladné stanovisko orgánu ochrany veřejného zdraví, aniž by u ní byla přijata opatření k ochraně před hlukem nebo vibracemi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em je zajistit „prioritu v území“ strategickým stavbám infrastruktury (pozemním komunikacím a drahám) již ve fázi zanesení budoucí trasy do územně plánovací dokumentac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 je umisťování „chráněných staveb “ i v lokalitách, v jejichž těsné blízkosti jsou navrženy trasy liniových staveb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odatečná zátěž provozovatelů  protihlukovými opatřeními, která jsou mnohdy technicky nemožná nebo nedostatečn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 o stavby bytových domů, rodinných domů, stavby pro předškolní a školní výchovu a vzdělávání, stavby pro zdravotní a sociální účely, jakož i funkčně obdobné stavb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ěný vnitřní pros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obytové místnosti ve stavbách zařízení pro výchovu a vzdělávání, pro zdravotní a sociální účely a ve funkčně obdobných stavbách a obytné místnosti ve všech stavbách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roj hluku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iště, pozemní komunikace, dráhy, stavby či jiná zařízení (s výjimkou venkovního prostoru) poskytnutá k pořádání veřejné produkce hudby, provozovny a další objekty, jejichž provozem vzniká hluk, ale i stroje a zařízení, které jsou zdrojem hluku nebo vibrac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marL="92520" indent="-9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 odst. 1 zákona č. 258/2000 Sb.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anoví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ž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ozovatel zdroje, pořadatel hudební akce, ale také majitel pozemku či objektu, na kterém je zdroj hluku umístěn aj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jsou povinny technickými, organizačními a dalšími opatřeními zajistit, aby hluk nepřekračoval hygienické lim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ou před hlukem se rozumí ochrana před „nadlimitním hlukem“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že je-li hluk podlimitní, není nutné přijímat žádná opatření k ochraně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se stavba umisťuje ke zdroji hluku do území, které není zasaženo nadlimitním hlukem, nejsou pro stavebníka žádná omezení, resp. není povinnost realizovat protihluková opatřen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ázat, že dané území není zatíženo zdrojem (nadlimitního) hluku, lze výpočte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ázat, že dané území není zatíženo zdrojem (nadlimitního) hluku, lze výpočte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e, že vypočtená hodnota je o více než 3,0 dB nižší, než hodnota relevantního hygienického limitu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leží výpočtový bod v „podlimitním“ území, neposuzuje se v daném místě zvýšení hluku o 2,0 dB a více. Jakmile by se v budoucnosti měřením prokázalo, že hluk je nadlimitní, znamená to, že povinnou osobou je provozovatel zdroje hluku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umisťování stavby do území není přípustné překročení hygienických limitů ani o 0,1 dB.  (logaritmický součet 40 +25 =40,1dB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avební úřad vždy zajistí, aby záměr žadatele ke stavbě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tového domu, rodinného domu, stavbě pro předškolní nebo školní vzdělávání, stavbě pro zdravotní nebo sociální účely anebo k funkčně obdobné stavbě a ke stavbě zdroje hluku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yl z hlediska ochrany před hlukem posouzen příslušným orgánem ochrany veřejného zdraví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em je, aby vstupuje-li chráněná stavba do území jako druhá, byla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vinnos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hlukových opatření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 straně stavební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ráněné stavby,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ikoli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ozovateli zdroj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uku, který byl v území první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Žadatel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vydání územního rozhodnutí, územního souhlasu nebo společného souhlasu ke stavbě podle odstavce 3 do území zatíženého zdrojem hlu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dlimitním hlukem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ředloží příslušnému orgánu ochrany veřejného zdrav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účely vydání stanoviska podle odstavc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měření hluku provedené podle § 32a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ávrh opatření k ochraně před hlukem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í ten, kdo vstupuje do území jako druhý“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řívější prax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uje-li zdroj hluku do území, ve kterém je umístěna chráněná zástavba, musí zajistit svůj budoucí provoz tak, aby nebyly překračovány hygienické limit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 chráněné stavby nebyl nikterak omeze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Žadatel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vydání územního rozhodnutí, územního souhlasu nebo společného souhlasu ke stavbě podle odstavce 3 do území zatíženého zdrojem hlu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dlimitním hlukem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ředloží příslušnému orgánu ochrany veřejného zdrav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účely vydání stanoviska podle odstavc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měření hluku provedené podle § 32a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ávrh opatření k ochraně před hlukem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í ten, kdo vstupuje do území jako druhý“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řívější prax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uje-li zdroj hluku do území, ve kterém je umístěna chráněná zástavba, musí zajistit svůj budoucí provoz tak, aby nebyly překračovány hygienické limit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 chráněné stavby nebyl nikterak omeze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3:19:18Z</dcterms:created>
  <dc:creator>Novy</dc:creator>
  <dc:description/>
  <dc:language>en-US</dc:language>
  <cp:lastModifiedBy>U12116</cp:lastModifiedBy>
  <dcterms:modified xsi:type="dcterms:W3CDTF">2016-10-10T16:40:47Z</dcterms:modified>
  <cp:revision>261</cp:revision>
  <dc:subject/>
  <dc:title>Hlučnost vytápěcích soustav</dc:title>
</cp:coreProperties>
</file>