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25B-7803-4D50-9E8D-61426CAE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43C-0FF2-475C-AF2F-4F3E7E3F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CA3-B811-4536-92B8-27EE0B8D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CA4-04A6-47C1-8F8B-2FBCD8FF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12A4-9C0F-4E5C-B905-7839F9D4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25DE-DBD9-4175-9EB9-6A41E1E6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6166-CC76-44E1-BFC7-36632475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5F58-8BCB-46E0-9098-42C33830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5AED-57FE-4994-9FD1-35E1F370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76E4-CB7E-4889-9FA5-E8AC4FE0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AE5F-3A13-4653-BF82-8B4B1D1E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5BA-1189-4389-8648-CA9AB698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F5E0-CE6E-470E-9599-704F3897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E8BC-93A5-45EE-88B1-6E9BE3D3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29B9-359E-464F-8742-51CDFBC4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6277-964F-4A00-8039-C7E897E0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04BD-5CCB-4087-AB0B-6A1BF432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C30-D412-4FE2-8685-DE8A5CF2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D6B-948B-4D07-837D-10765AD7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123-C030-40E0-93FC-F55B2F0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7C2-AD4C-409E-BF8A-783C3EBA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44C-28FD-4B46-8802-17D62812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E45-2AFB-42ED-A936-36A9E0A2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AC4-5D7A-41C0-9D42-D078EAE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0D72-D6F0-4D2B-9052-A0B56E31B54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EF7A-054A-42BF-9565-1C3444BB1898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ng. Miroslav Kučera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akulta strojní ČVUT v Pra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stav techniky prostřed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mail: miroslav.kucera@fs.cvut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2276640"/>
            <a:ext cx="8280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ovela § 77 zákona č. 258/2000 Sb., o ochraně veřejného zdrav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Neprovede-li stavebník dostatečná opatření k ochraně před hlukem, nemůže žádat, aby tato opatření provedl provozovatel, vlastník nebo správce zdroje hluku. To neplatí, dojde-li k prokazatelnému navýšení hluku ze zdroje hluku; co se považuje za prokazatelné navýšení hluku, stanoví prováděcí právní předpi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rovozovatele zdroje hluku pokud byl v území první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prokazatelném nárůstu hlučnosti zdroje, úpravy leží na provozovateli zdroj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vrh stavebníka na odloženou realizaci protihlukové ochrany chráněné stavby do doby realizace plánované výstavby např. pozemní komunikace, nelze akceptova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611280" y="1125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ochraně zdraví před nepříznivými účinky hluku a vibr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o novelizováno a je platné ve zněn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bdélník 1"/>
          <p:cNvSpPr/>
          <p:nvPr/>
        </p:nvSpPr>
        <p:spPr>
          <a:xfrm>
            <a:off x="611280" y="17208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by, objekty, provozovny, nepohybující se stroje a zařízení pevně fixované na své místo nebo ty, jejichž akční rádius je při pracovním nasazení omezen…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se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ne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droje související s činnostmi spojenými s běžným užíváním bytu, bytového domu, rodinného domu, stavby pro rodinnou rekreaci a pozemků k nim náležejících,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s výjimkou zařízení pro větrání a vytápě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, která jsou nedílnou součástí stavb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 kolaudována se stavbo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y pro chráněné prostory zůstávají    50/40  a 40/30 d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zení - klimatizace (chladí a netopí) - kolaudace – stac. zdro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nesena dodatečně – sousedský hlu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Obdélník 1"/>
          <p:cNvSpPr/>
          <p:nvPr/>
        </p:nvSpPr>
        <p:spPr>
          <a:xfrm>
            <a:off x="611280" y="1720800"/>
            <a:ext cx="79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em významným z hlediska pronikání hluku je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ed výplní otvoru obvodového pláště stavby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zajišťující přímé přirozené větr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a níž se nachází chráněný vnitřní prostor stavby,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ku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to chráněný prostor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přímo větrat jina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rání tlumenými štěrbinami na fasádě je povol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 nelze provětrávat přes sousední místno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na mohou být otevíratelná avšak při jejich uzavření musí být splněn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ický lim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Obdélník 1"/>
          <p:cNvSpPr/>
          <p:nvPr/>
        </p:nvSpPr>
        <p:spPr>
          <a:xfrm>
            <a:off x="539640" y="17208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prokazatelné navýšení  hluku zdroje se považuje  navýšení větší než 2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ze považovat za hodnotitelnou změnu rozdíl v intervalu 0,1 až 0,9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nění hygienického limit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258920" y="4581360"/>
            <a:ext cx="5184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7" name="Objekt 3"/>
          <p:cNvGraphicFramePr/>
          <p:nvPr/>
        </p:nvGraphicFramePr>
        <p:xfrm>
          <a:off x="1692360" y="4348080"/>
          <a:ext cx="520056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k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348080"/>
                    <a:ext cx="5200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539640" y="285264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je dotčeným správním úřadem při rozhodování ve věcech upravených zvláštními právními předpisy </a:t>
            </a:r>
            <a:r>
              <a:rPr b="0" i="1" lang="cs-CZ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2)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é se dotýkají zájmů chráněných orgánem ochrany veřejného zdraví podle tohoto zákona a zvláštních právních předpisů včetně hodnocení a řízení zdravotních rizik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vydává v těchto věcech stanovisko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hlas může orgán ochrany veřejného zdraví vázat na splnění podmínek. Stanovisko není rozhodnutím vydaným ve správním říz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hledisek stavebního zákona jde zejména o problematiku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hrany před hlukem, vibracem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ionizujícím záření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 případě, že je v platné územně plánovací dokumentaci uveden záměr, u kterého lze důvodně předpokládat, že bude po uvedení do provozu zdrojem hluku nebo vibrac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ejména z provozu na pozemních komunikacích nebo železničních drahách,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ke stavbě, která by mohla být tímto hlukem či vibracemi dotčena, vydat kladné stanovisko orgánu ochrany veřejného zdraví, aniž by u ní byla přijata opatření k ochraně před hlukem nebo vibracemi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 zajistit „prioritu v území“ strategickým stavbám infrastruktury (pozemním komunikacím a drahám) již ve fázi zanesení budoucí trasy do územně plánovací dokument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 je umisťování „chráněných staveb “ i v lokalitách, v jejichž těsné blízkosti jsou navrženy trasy liniových staveb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datečná zátěž provozovatelů  protihlukovými opatřeními, která jsou mnohdy technicky nemožná nebo nedostatečn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 o stavby bytových domů, rodinných domů, stavby pro předškolní a školní výchovu a vzdělávání, stavby pro zdravotní a sociální účely, jakož i funkčně obdobné stavb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ěný vnitřní 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obytové místnosti ve stavbách zařízení pro výchovu a vzdělávání, pro zdravotní a sociální účely a ve funkčně obdobných stavbách a obytné místnosti ve všech stavbách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oj hluku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iště, pozemní komunikace, dráhy, stavby či jiná zařízení (s výjimkou venkovního prostoru) poskytnutá k pořádání veřejné produkce hudby, provozovny a další objekty, jejichž provozem vzniká hluk, ale i stroje a zařízení, které jsou zdrojem hluku nebo vibrac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 odst. 1 zákona č. 258/2000 Sb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nov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 zdroje, pořadatel hudební akce, ale také majitel pozemku či objektu, na kterém je zdroj hluku umístěn aj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sou povinny technickými, organizačními a dalšími opatřeními zajistit, aby hluk nepřekračoval hygienické lim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ou před hlukem se rozumí ochrana před „nadlimitním hlukem“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že je-li hluk podlimitní, není nutné přijímat žádná opatření k ochraně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se stavba umisťuje ke zdroji hluku do území, které není zasaženo nadlimitním hlukem, nejsou pro stavebníka žádná omezení, resp. není povinnost realizovat protihluková opatř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e, že vypočtená hodnota je o více než 3,0 dB nižší, než hodnota relevantního hygienického limit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leží výpočtový bod v „podlimitním“ území, neposuzuje se v daném místě zvýšení hluku o 2,0 dB a více. Jakmile by se v budoucnosti měřením prokázalo, že hluk je nadlimitní, znamená to, že povinnou osobou je provozovatel zdroje hluk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umisťování stavby do území není přípustné překročení hygienických limitů ani o 0,1 dB.  (logaritmický součet 40 +25 =40,1dB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vební úřad vždy zajistí, aby záměr žadatele ke stavbě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tového domu, rodinného domu, stavbě pro předškolní nebo školní vzdělávání, stavbě pro zdravotní nebo sociální účely anebo k funkčně obdobné stavbě a ke stavbě zdroje hluku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yl z hlediska ochrany před hlukem posouzen příslušným orgánem ochrany veřejného zdraví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, aby vstupuje-li chráněná stavba do území jako druhá, byl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vinn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hlukových opatření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 straně stavební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ráněné stavby,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ikoli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i zdroj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uku, který byl v území první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9:18Z</dcterms:created>
  <dc:creator>Novy</dc:creator>
  <dc:description/>
  <dc:language>en-US</dc:language>
  <cp:lastModifiedBy>U12116</cp:lastModifiedBy>
  <dcterms:modified xsi:type="dcterms:W3CDTF">2016-10-10T16:40:47Z</dcterms:modified>
  <cp:revision>261</cp:revision>
  <dc:subject/>
  <dc:title>Hlučnost vytápěcích soustav</dc:title>
</cp:coreProperties>
</file>