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FFB-8F60-4F69-A4F1-10C07610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CA8-0078-49C4-A185-E211B36F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4B4-94F3-47E1-AEE6-20A2513F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37D-D515-42C2-B4CC-D8CB8A73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631-72B3-4FD8-B35C-8023462C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352-3CB5-48E7-A8C1-5256747F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474-ADD5-4C5D-A20C-F7DA17FA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6A1-CD6B-49A6-A4B9-7A6C2A08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5F0-DCA5-44A3-8BE4-972D2AE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ED6-1A96-4DD7-AF0B-E6231F7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2BF-2638-4CD6-81B4-899BD790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B42-F04D-43CA-86F9-E9E517B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8b8d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8795-E67B-4463-8B4E-677B8B4C5A0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Materiálové porovnání otopných so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Dr Ing. 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971640" y="1484280"/>
          <a:ext cx="720864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20864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755640" y="1484280"/>
          <a:ext cx="756432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5643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826920" y="1557360"/>
          <a:ext cx="7564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646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342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ff33"/>
                </a:solidFill>
                <a:latin typeface="Arial"/>
              </a:rPr>
              <a:t>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3" descr="2.NPd.jpg"/>
          <p:cNvPicPr/>
          <p:nvPr/>
        </p:nvPicPr>
        <p:blipFill>
          <a:blip r:embed="rId1"/>
          <a:stretch/>
        </p:blipFill>
        <p:spPr>
          <a:xfrm>
            <a:off x="250920" y="1268280"/>
            <a:ext cx="86929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1.NPd.jpg"/>
          <p:cNvPicPr/>
          <p:nvPr/>
        </p:nvPicPr>
        <p:blipFill>
          <a:blip r:embed="rId1"/>
          <a:stretch/>
        </p:blipFill>
        <p:spPr>
          <a:xfrm>
            <a:off x="755640" y="1285920"/>
            <a:ext cx="788364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sché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3" descr="Schemad.jpg"/>
          <p:cNvPicPr/>
          <p:nvPr/>
        </p:nvPicPr>
        <p:blipFill>
          <a:blip r:embed="rId1"/>
          <a:srcRect l="0" t="11170" r="0" b="0"/>
          <a:stretch/>
        </p:blipFill>
        <p:spPr>
          <a:xfrm>
            <a:off x="539640" y="1557360"/>
            <a:ext cx="809964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2.NPc.jpg"/>
          <p:cNvPicPr/>
          <p:nvPr/>
        </p:nvPicPr>
        <p:blipFill>
          <a:blip r:embed="rId1"/>
          <a:stretch/>
        </p:blipFill>
        <p:spPr>
          <a:xfrm>
            <a:off x="611280" y="1235160"/>
            <a:ext cx="7956360" cy="562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1.NPc.jpg"/>
          <p:cNvPicPr/>
          <p:nvPr/>
        </p:nvPicPr>
        <p:blipFill>
          <a:blip r:embed="rId1"/>
          <a:stretch/>
        </p:blipFill>
        <p:spPr>
          <a:xfrm>
            <a:off x="755640" y="1268280"/>
            <a:ext cx="7667640" cy="541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</a:t>
            </a:r>
            <a:br>
              <a:rPr sz="4000"/>
            </a:b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požadavek invest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Clanek.jpg"/>
          <p:cNvPicPr/>
          <p:nvPr/>
        </p:nvPicPr>
        <p:blipFill>
          <a:blip r:embed="rId1"/>
          <a:srcRect l="0" t="6674" r="0" b="0"/>
          <a:stretch/>
        </p:blipFill>
        <p:spPr>
          <a:xfrm>
            <a:off x="826920" y="1700280"/>
            <a:ext cx="759636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3" descr="2.NPj.jpg"/>
          <p:cNvPicPr/>
          <p:nvPr/>
        </p:nvPicPr>
        <p:blipFill>
          <a:blip r:embed="rId1"/>
          <a:stretch/>
        </p:blipFill>
        <p:spPr>
          <a:xfrm>
            <a:off x="900000" y="1413000"/>
            <a:ext cx="7523280" cy="531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1.NPj.jpg"/>
          <p:cNvPicPr/>
          <p:nvPr/>
        </p:nvPicPr>
        <p:blipFill>
          <a:blip r:embed="rId1"/>
          <a:stretch/>
        </p:blipFill>
        <p:spPr>
          <a:xfrm>
            <a:off x="826920" y="1387440"/>
            <a:ext cx="774072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6:11:35Z</dcterms:created>
  <dc:creator>.</dc:creator>
  <dc:description/>
  <dc:language>en-US</dc:language>
  <cp:lastModifiedBy>user</cp:lastModifiedBy>
  <dcterms:modified xsi:type="dcterms:W3CDTF">2016-10-06T18:41:36Z</dcterms:modified>
  <cp:revision>24</cp:revision>
  <dc:subject/>
  <dc:title>JEDNOTRUBKA A PODLAHOVÉ VYTÁPĚNÍ</dc:title>
</cp:coreProperties>
</file>