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95A4-CCA5-43AE-B721-39EC1C4A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5657-B218-4041-98A1-3A1D87F1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EB29-637E-4D60-92CF-E71064E1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4789-7B4C-4629-895B-F4BBD6CA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D9F6-2F87-4843-A7C1-EC67647C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B278-5124-4AA3-9706-ED60ACA1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7699-D265-4A34-AC23-86CC3A6A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A56D-209A-4142-919A-7F3D30E1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5331-BFB1-4604-B3C0-33CE54C6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7661-1194-4C8A-A9C7-AD8DC25F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7796-0D9F-4576-A1C0-C03A358D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FA4C-8270-49AB-AC22-A9979F47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2436-EB55-4687-90F0-038C34DCA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836640"/>
            <a:ext cx="8713800" cy="4032360"/>
          </a:xfrm>
          <a:prstGeom prst="rect">
            <a:avLst/>
          </a:prstGeom>
          <a:solidFill>
            <a:srgbClr val="0000cc"/>
          </a:solidFill>
          <a:ln w="57240">
            <a:solidFill>
              <a:srgbClr val="fe26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Některé poznatky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z </a:t>
            </a:r>
            <a:br>
              <a:rPr sz="54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komerčního)</a:t>
            </a:r>
            <a:br>
              <a:rPr sz="2800"/>
            </a:b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měření ITN</a:t>
            </a:r>
            <a:br>
              <a:rPr sz="8000"/>
            </a:br>
            <a:br>
              <a:rPr sz="9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37040" y="5445000"/>
            <a:ext cx="306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Luděk Mare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CSI a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ludek.mares@fs.cvu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4360" y="549360"/>
            <a:ext cx="7848360" cy="56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977080" cy="3754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5080" y="0"/>
            <a:ext cx="69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ÉMA MĚŘENÍ INDIKÁTORU V KALORIMETRICKÉ KOMOŘ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71280" y="0"/>
            <a:ext cx="64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ÁZNAM TEPLOT BĚHEM MĚŘENÍ - KVALITNÍ INDIKÁ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53440" cy="51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18160" y="0"/>
            <a:ext cx="637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KVALITNÍ INDIKÁTOR – NESPLŇUJE PŘEDEPSANÉ „c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53440" cy="51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0"/>
            <a:ext cx="79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KÁTOR UMÍSTĚNÝ V OBLASTI VYSOKÉ POVRCHOVÉ TEPLOT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5344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9400" y="0"/>
            <a:ext cx="785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MA ČSN EN 83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ísto instalace musí být tam, kde teplonosná látka prošla od 20 % do 34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celkové aktivní otopné plochy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53440" cy="5197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649920" y="3213000"/>
            <a:ext cx="24940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067280" y="1844640"/>
            <a:ext cx="1225440" cy="792360"/>
          </a:xfrm>
          <a:prstGeom prst="ellipse">
            <a:avLst/>
          </a:prstGeom>
          <a:noFill/>
          <a:ln w="38160">
            <a:solidFill>
              <a:srgbClr val="fe26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43160" y="907920"/>
            <a:ext cx="4921200" cy="5210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124720" y="0"/>
            <a:ext cx="509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OROVÁNÍ“ OBJEDNATELE S UMÍSTĚ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EVYCHÁZEL SOUČINITEL „c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560" y="0"/>
            <a:ext cx="37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T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 EXTERNÍM SEZ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KÁTOR JE OVLIVNĚ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ÁLÁNÍM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 STĚN MÍST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52000" cy="5197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580000" y="0"/>
            <a:ext cx="35640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625040" y="65160"/>
            <a:ext cx="59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ÍSTĚNÍ INDIKÁTORU A STŘEDNÍ TEPLOTY NA 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78120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98040" y="333360"/>
            <a:ext cx="53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(Vavřička, R.: Povrchová teplota deskových OT, in: Topin 2/20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976320"/>
            <a:ext cx="9144000" cy="5881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625040" y="65160"/>
            <a:ext cx="59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ÍSTĚNÍ INDIKÁTORU A STŘEDNÍ TEPLOTY NA 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25040" y="65160"/>
            <a:ext cx="59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ÍSTĚNÍ INDIKÁTORU A STŘEDNÍ TEPLOTY NA 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58920" y="576360"/>
            <a:ext cx="6697800" cy="62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240" y="1700280"/>
            <a:ext cx="862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ŮVODY PRO STANOVOVÁNÍ SPOTŘEBOVANÉHO TEP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EDNOTLIVÝMI BYTY V BYTOVÝCH DOME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- SPRAVEDLIVÉ ROZÚČTOVÁNÍ NÁKLADŮ NA VYTÁP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- ÚSPORY TEPLA („když platím podle toho co spotřebuji, tak šetřím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16000" y="602136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ěkuji za pozor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9440" y="83520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ÁVĚ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280" y="1844640"/>
            <a:ext cx="71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OVENÍ SPOTŘEBY TEPLA POUŽITÍM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OVLIVNĚNO MNOHA OBTÍŽNĚ PODCHYTITELNÝMI FAK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ZATÍŽENO ŘADOU NEZANEDBATELNÝCH CHY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268360" y="2997360"/>
                <a:ext cx="40323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Q</m:t>
                    </m:r>
                    <m:r>
                      <m:t xml:space="preserve">=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r>
                      <m:t xml:space="preserve">Δ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396360" y="0"/>
            <a:ext cx="731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TEPLA PŘEDANÉHO TEPLONOSNOU LÁTK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36360" y="5589720"/>
            <a:ext cx="557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 NELZE POUŽÍT U VERTIKÁLNÍ SOUSTAVY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900000" y="1989000"/>
                <a:ext cx="44640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≈</m:t>
                    </m:r>
                    <m:r>
                      <m:t xml:space="preserve">ΔQ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zduch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Δ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6443640" y="1957320"/>
                <a:ext cx="10080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E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685080" y="1628640"/>
            <a:ext cx="52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RŮST SPOTŘEBNÍ HODNOTY INDIKÁTOR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8720" y="69228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EDANÉ TE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7080" y="0"/>
            <a:ext cx="83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TEPLA PŘEDANÉHO PŘES TEPLOSMĚNNOU PLOC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79280" y="981000"/>
                <a:ext cx="44640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≈</m:t>
                    </m:r>
                    <m:r>
                      <m:t xml:space="preserve">ΔQ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zduch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Δ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179280" y="1125360"/>
            <a:ext cx="792360" cy="432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859280" y="4410000"/>
                <a:ext cx="32418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042920" y="4437000"/>
                <a:ext cx="31687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900000" y="1974960"/>
                <a:ext cx="44640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≈</m:t>
                    </m:r>
                    <m:r>
                      <m:t xml:space="preserve">ΔQ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zduch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Δ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443640" y="1957320"/>
                <a:ext cx="10080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E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5869440" y="1341360"/>
            <a:ext cx="25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YCHLOST ZÁZNA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KÁTOR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7080" y="0"/>
            <a:ext cx="83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TEPLA PŘEDANÉHO PŘES TEPLOSMĚNNOU PLOC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859280" y="4410000"/>
                <a:ext cx="32418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042920" y="4437000"/>
                <a:ext cx="31687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900000" y="1974960"/>
                <a:ext cx="44640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≈</m:t>
                    </m:r>
                    <m:r>
                      <m:t xml:space="preserve">ΔQ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zduch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Δ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443640" y="1957320"/>
                <a:ext cx="10080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E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4718160" y="3357720"/>
            <a:ext cx="364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HODNOCOVACÍ SOUČINI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ÁKLADŮ NA VYTÁPĚ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 TEPELNÝ STYK SNÍMAČŮ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859280" y="4410000"/>
                <a:ext cx="32418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397080" y="0"/>
            <a:ext cx="83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TEPLA PŘEDANÉHO PŘES TEPLOSMĚNNOU PLOC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042920" y="4437000"/>
                <a:ext cx="31687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900000" y="1974960"/>
                <a:ext cx="44640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≈</m:t>
                    </m:r>
                    <m:r>
                      <m:t xml:space="preserve">ΔQ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zduch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Δ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443640" y="1957320"/>
                <a:ext cx="10080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E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042920" y="4437000"/>
                <a:ext cx="31687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396360" y="3141720"/>
            <a:ext cx="354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ČINITEL „c“ INDIKÁTO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VYJADŘUJE JAK SE TEPL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ĚŘENÉ INDIKÁT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BLIŽUJÍ SKUTEČNÝM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7080" y="0"/>
            <a:ext cx="83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TEPLA PŘEDANÉHO PŘES TEPLOSMĚNNOU PLOC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859280" y="4410000"/>
                <a:ext cx="32418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556000" y="3213000"/>
                <a:ext cx="16556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63640" y="2222640"/>
            <a:ext cx="5688000" cy="2442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0" y="2781360"/>
            <a:ext cx="431640" cy="431640"/>
          </a:xfrm>
          <a:prstGeom prst="ellipse">
            <a:avLst/>
          </a:prstGeom>
          <a:noFill/>
          <a:ln w="28440">
            <a:solidFill>
              <a:srgbClr val="fe26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24720" y="0"/>
            <a:ext cx="51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EDEPSANÉ UMÍSTĚNÍ INDIKÁTORU N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68360" y="981000"/>
            <a:ext cx="3097080" cy="511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17440" y="1432080"/>
            <a:ext cx="2011680" cy="3560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126160" y="0"/>
            <a:ext cx="47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ÉMA DVOUČIDLOVÉHO INDIKÁT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15560" y="1628640"/>
            <a:ext cx="542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ROKY 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DOBRÝ DOTYK SENZORU 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TEPLOTNÍ ODIZOLOVÁNÍ SENZORU VZDU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ČASOVOU STÁLOST SENZO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PŘESNOU ELEKTRONI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TRVANLIVOST BAT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20:25:39Z</dcterms:created>
  <dc:creator>Luděk Mareš</dc:creator>
  <dc:description/>
  <dc:language>en-US</dc:language>
  <cp:lastModifiedBy>L</cp:lastModifiedBy>
  <dcterms:modified xsi:type="dcterms:W3CDTF">2016-10-13T19:26:37Z</dcterms:modified>
  <cp:revision>55</cp:revision>
  <dc:subject/>
  <dc:title>Snímek 1</dc:title>
</cp:coreProperties>
</file>