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1520488" cy="7199313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717480" y="1240920"/>
            <a:ext cx="5362560" cy="335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1DF0-FFA8-46F3-B998-109096E997D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9005-CD6B-44AC-946E-DC3B420FAB4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0AD8-5EC0-429F-BB02-B2CBBC4F427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9467-D728-4092-91B2-D62561DA4F3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8A6A-AC64-48FA-A68B-ADA761D1905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CCBB-288C-4CC9-A210-B24F83E6753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5242-EA54-4EB8-9B08-2B43C310E79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4FE1-25CC-4009-AD96-5201A3226FD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8578-4684-48FD-A4D1-7F0BB539D2D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0F39-B0AA-4D27-A498-4F177CE3554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33F2-551A-4C71-AB8A-A9E9EE6831D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08E4-9B25-40AA-8FFF-BCBB2D39B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07CA-D9DE-4A7C-8126-FC38AE20A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3BCE-F095-4615-8FB4-024186659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CA00-16EA-4CD8-ADF6-74A90C457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BD5E-6FE6-48DB-889B-BE9F8753F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F37B-83A3-4525-8E15-FA00AD4723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10F6-A5AA-44C6-8C1A-629A42153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5837-AED7-4EAD-9602-472BAF8C2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6376-BF56-4A96-B344-BF8FA854F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A852-377D-40D2-B113-7E1676B89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08F2-8816-4A86-82B7-5F7FDF077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A2B2-3468-44FD-941A-FA2E522B0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256600" y="6671880"/>
            <a:ext cx="268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37C4-17A1-4A4F-B933-4D4306ACC3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ázek 2" descr="Logo_UTP_kompl_pop_03_2014.jpg"/>
          <p:cNvPicPr/>
          <p:nvPr/>
        </p:nvPicPr>
        <p:blipFill>
          <a:blip r:embed="rId2"/>
          <a:srcRect l="0" t="0" r="0" b="28271"/>
          <a:stretch/>
        </p:blipFill>
        <p:spPr>
          <a:xfrm>
            <a:off x="8640720" y="225360"/>
            <a:ext cx="2448000" cy="933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0" y="6696000"/>
            <a:ext cx="11520360" cy="523800"/>
          </a:xfrm>
          <a:prstGeom prst="rect">
            <a:avLst/>
          </a:prstGeom>
          <a:solidFill>
            <a:srgbClr val="707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0944360" y="6791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43F7-B1C3-48FD-B632-FDC9921A02ED}" type="slidenum">
              <a:rPr b="1" lang="en-US" sz="16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římá spojnice 6"/>
          <p:cNvSpPr/>
          <p:nvPr/>
        </p:nvSpPr>
        <p:spPr>
          <a:xfrm>
            <a:off x="0" y="1079640"/>
            <a:ext cx="7920000" cy="0"/>
          </a:xfrm>
          <a:prstGeom prst="line">
            <a:avLst/>
          </a:prstGeom>
          <a:ln w="5724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8" descr=""/>
          <p:cNvPicPr/>
          <p:nvPr/>
        </p:nvPicPr>
        <p:blipFill>
          <a:blip r:embed="rId1"/>
          <a:stretch/>
        </p:blipFill>
        <p:spPr>
          <a:xfrm>
            <a:off x="719280" y="622440"/>
            <a:ext cx="448128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Obrázek 5" descr="Logo_UTP_kompl_pop_03_2014.jpg"/>
          <p:cNvPicPr/>
          <p:nvPr/>
        </p:nvPicPr>
        <p:blipFill>
          <a:blip r:embed="rId2"/>
          <a:srcRect l="0" t="0" r="0" b="27336"/>
          <a:stretch/>
        </p:blipFill>
        <p:spPr>
          <a:xfrm>
            <a:off x="7777080" y="635040"/>
            <a:ext cx="2946600" cy="1139760"/>
          </a:xfrm>
          <a:prstGeom prst="rect">
            <a:avLst/>
          </a:prstGeom>
          <a:ln w="0">
            <a:noFill/>
          </a:ln>
        </p:spPr>
      </p:pic>
      <p:sp>
        <p:nvSpPr>
          <p:cNvPr id="124" name="Obdélník 11"/>
          <p:cNvSpPr/>
          <p:nvPr/>
        </p:nvSpPr>
        <p:spPr>
          <a:xfrm>
            <a:off x="360360" y="1943280"/>
            <a:ext cx="1065672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707173"/>
                </a:solidFill>
                <a:latin typeface="Arial Narrow"/>
                <a:ea typeface="Calibri"/>
              </a:rPr>
              <a:t>STUDIE PROVOZNÍCH VLASTNOSTÍ OTOPNÝCH TĚ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  <a:ea typeface="Calibri"/>
              </a:rPr>
              <a:t>Školení topenářů Kutná H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  <a:ea typeface="Calibri"/>
              </a:rPr>
              <a:t>11. 10.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7173"/>
                </a:solidFill>
                <a:latin typeface="Arial Narrow"/>
                <a:ea typeface="Calibri"/>
              </a:rPr>
              <a:t>Ing. Jindřich Boháč a Ing. Roman Vavřička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76360" y="217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Porovnání konstrukčních vlastn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655640" y="1943280"/>
            <a:ext cx="835344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707173"/>
                </a:solidFill>
                <a:latin typeface="Arial Narrow"/>
              </a:rPr>
              <a:t>Tři krité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Objemové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 W / l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Hmotnostní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W /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kg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Přestupní plocha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W /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m</a:t>
            </a:r>
            <a:r>
              <a:rPr b="1" lang="cs-CZ" sz="4400" spc="-1" strike="noStrike" baseline="30000">
                <a:solidFill>
                  <a:srgbClr val="707173"/>
                </a:solidFill>
                <a:latin typeface="Arial Narrow"/>
                <a:ea typeface="Arial"/>
              </a:rPr>
              <a:t>2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503280" y="216000"/>
          <a:ext cx="7705800" cy="6826320"/>
        </p:xfrm>
        <a:graphic>
          <a:graphicData uri="http://schemas.openxmlformats.org/drawingml/2006/table">
            <a:tbl>
              <a:tblPr/>
              <a:tblGrid>
                <a:gridCol w="936720"/>
                <a:gridCol w="1224000"/>
                <a:gridCol w="647640"/>
                <a:gridCol w="504720"/>
                <a:gridCol w="863640"/>
                <a:gridCol w="504720"/>
                <a:gridCol w="863640"/>
                <a:gridCol w="503280"/>
                <a:gridCol w="720720"/>
                <a:gridCol w="936720"/>
              </a:tblGrid>
              <a:tr h="730440"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bjem [W/l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mo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[W/kg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řestupní plocha [W/m</a:t>
                      </a:r>
                      <a:r>
                        <a:rPr b="1" lang="cs-CZ" sz="16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em bo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řa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KF 1 –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58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 50 –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97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WF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4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R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O-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A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AS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I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RM 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YGI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44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DE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 PROF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50 –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KF 1 –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EH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LE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Y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ovéPole 3"/>
          <p:cNvSpPr/>
          <p:nvPr/>
        </p:nvSpPr>
        <p:spPr>
          <a:xfrm>
            <a:off x="287280" y="2951280"/>
            <a:ext cx="1094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707173"/>
                </a:solidFill>
                <a:latin typeface="Arial Narrow"/>
              </a:rPr>
              <a:t>Děkuji za pozorno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rázek 8" descr=""/>
          <p:cNvPicPr/>
          <p:nvPr/>
        </p:nvPicPr>
        <p:blipFill>
          <a:blip r:embed="rId1"/>
          <a:stretch/>
        </p:blipFill>
        <p:spPr>
          <a:xfrm>
            <a:off x="719280" y="635040"/>
            <a:ext cx="4481280" cy="1152360"/>
          </a:xfrm>
          <a:prstGeom prst="rect">
            <a:avLst/>
          </a:prstGeom>
          <a:ln w="0">
            <a:noFill/>
          </a:ln>
        </p:spPr>
      </p:pic>
      <p:pic>
        <p:nvPicPr>
          <p:cNvPr id="156" name="Obrázek 5" descr="Logo_UTP_kompl_pop_03_2014.jpg"/>
          <p:cNvPicPr/>
          <p:nvPr/>
        </p:nvPicPr>
        <p:blipFill>
          <a:blip r:embed="rId2"/>
          <a:srcRect l="0" t="0" r="0" b="27336"/>
          <a:stretch/>
        </p:blipFill>
        <p:spPr>
          <a:xfrm>
            <a:off x="7777080" y="635040"/>
            <a:ext cx="2946600" cy="1139760"/>
          </a:xfrm>
          <a:prstGeom prst="rect">
            <a:avLst/>
          </a:prstGeom>
          <a:ln w="0">
            <a:noFill/>
          </a:ln>
        </p:spPr>
      </p:pic>
      <p:pic>
        <p:nvPicPr>
          <p:cNvPr id="157" name="Obrázek 4" descr=""/>
          <p:cNvPicPr/>
          <p:nvPr/>
        </p:nvPicPr>
        <p:blipFill>
          <a:blip r:embed="rId3"/>
          <a:stretch/>
        </p:blipFill>
        <p:spPr>
          <a:xfrm>
            <a:off x="2232000" y="56167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58" name="Obrázek 5" descr=""/>
          <p:cNvPicPr/>
          <p:nvPr/>
        </p:nvPicPr>
        <p:blipFill>
          <a:blip r:embed="rId4"/>
          <a:stretch/>
        </p:blipFill>
        <p:spPr>
          <a:xfrm>
            <a:off x="3473280" y="5622840"/>
            <a:ext cx="889200" cy="89064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6" descr=""/>
          <p:cNvPicPr/>
          <p:nvPr/>
        </p:nvPicPr>
        <p:blipFill>
          <a:blip r:embed="rId5"/>
          <a:stretch/>
        </p:blipFill>
        <p:spPr>
          <a:xfrm>
            <a:off x="5927760" y="562284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Obrázek 7" descr=""/>
          <p:cNvPicPr/>
          <p:nvPr/>
        </p:nvPicPr>
        <p:blipFill>
          <a:blip r:embed="rId6"/>
          <a:stretch/>
        </p:blipFill>
        <p:spPr>
          <a:xfrm>
            <a:off x="7143840" y="561672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161" name="Obrázek 10" descr=""/>
          <p:cNvPicPr/>
          <p:nvPr/>
        </p:nvPicPr>
        <p:blipFill>
          <a:blip r:embed="rId7"/>
          <a:stretch/>
        </p:blipFill>
        <p:spPr>
          <a:xfrm>
            <a:off x="4713120" y="56167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62" name="Obrázek 12" descr=""/>
          <p:cNvPicPr/>
          <p:nvPr/>
        </p:nvPicPr>
        <p:blipFill>
          <a:blip r:embed="rId8"/>
          <a:stretch/>
        </p:blipFill>
        <p:spPr>
          <a:xfrm>
            <a:off x="8358120" y="5597640"/>
            <a:ext cx="90828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142920" y="1150920"/>
            <a:ext cx="11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Nábě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ázek 11" descr="C:\Users\JB\Dropbox\MINIB - Case Study - 2016\V Y H O D N O C E N Í\obr.4.jpg"/>
          <p:cNvPicPr/>
          <p:nvPr/>
        </p:nvPicPr>
        <p:blipFill>
          <a:blip r:embed="rId1"/>
          <a:stretch/>
        </p:blipFill>
        <p:spPr>
          <a:xfrm>
            <a:off x="2376360" y="1235160"/>
            <a:ext cx="9001080" cy="58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142920" y="1150920"/>
            <a:ext cx="11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Chladnu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ázek 9" descr="C:\Users\JB\Dropbox\MINIB - Case Study - 2016\V Y H O D N O C E N Í\obr.5.jpg"/>
          <p:cNvPicPr/>
          <p:nvPr/>
        </p:nvPicPr>
        <p:blipFill>
          <a:blip r:embed="rId1"/>
          <a:stretch/>
        </p:blipFill>
        <p:spPr>
          <a:xfrm>
            <a:off x="2735280" y="1582560"/>
            <a:ext cx="865980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rázek 4" descr=""/>
          <p:cNvPicPr/>
          <p:nvPr/>
        </p:nvPicPr>
        <p:blipFill>
          <a:blip r:embed="rId1"/>
          <a:stretch/>
        </p:blipFill>
        <p:spPr>
          <a:xfrm>
            <a:off x="3811680" y="4013280"/>
            <a:ext cx="4248000" cy="3186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42920" y="1150920"/>
            <a:ext cx="11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Experiment v laboratořích Ústavu techniky prostředí FS ČVUT v Pr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rázek 1" descr=""/>
          <p:cNvPicPr/>
          <p:nvPr/>
        </p:nvPicPr>
        <p:blipFill>
          <a:blip r:embed="rId2"/>
          <a:stretch/>
        </p:blipFill>
        <p:spPr>
          <a:xfrm>
            <a:off x="142920" y="1674720"/>
            <a:ext cx="4321080" cy="3240360"/>
          </a:xfrm>
          <a:prstGeom prst="rect">
            <a:avLst/>
          </a:prstGeom>
          <a:ln w="0">
            <a:noFill/>
          </a:ln>
        </p:spPr>
      </p:pic>
      <p:pic>
        <p:nvPicPr>
          <p:cNvPr id="135" name="Obrázek 5" descr=""/>
          <p:cNvPicPr/>
          <p:nvPr/>
        </p:nvPicPr>
        <p:blipFill>
          <a:blip r:embed="rId3"/>
          <a:stretch/>
        </p:blipFill>
        <p:spPr>
          <a:xfrm>
            <a:off x="7534440" y="1674720"/>
            <a:ext cx="3985920" cy="29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31640" y="1800360"/>
          <a:ext cx="10585440" cy="4854600"/>
        </p:xfrm>
        <a:graphic>
          <a:graphicData uri="http://schemas.openxmlformats.org/drawingml/2006/table">
            <a:tbl>
              <a:tblPr/>
              <a:tblGrid>
                <a:gridCol w="1322640"/>
                <a:gridCol w="1225440"/>
                <a:gridCol w="4363920"/>
                <a:gridCol w="1650960"/>
                <a:gridCol w="2022480"/>
              </a:tblGrid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ruh těl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zna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ový tepelný výkon [W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ozměry HxVxD [m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nve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T 50 – přirozené vybíjení (T50 –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3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 x 50 x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T 50 – nucené vybíjení (T 50 – N)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 x 50 x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KF 1 – přirozené vybíjení (NKF 1 –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 x 178 x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KF 1 – nucené vybíjení (NKF 1 – N)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 x 178 x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WF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5 x 178 x 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Člán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500/110 – 10 článků (KALOR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 x 58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ON – 10 článků (OR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578 x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LAR – 10 článků (SO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 x 579 x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b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LUX LINEAR 1200/600 (K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 x 120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DIK KLASIK 10 - 500x1000 (KLASI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 x 500 x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7"/>
          <p:cNvSpPr/>
          <p:nvPr/>
        </p:nvSpPr>
        <p:spPr>
          <a:xfrm>
            <a:off x="142920" y="1150920"/>
            <a:ext cx="11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Zvolená 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Přechodové křivky - Nábě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Obr_3"/>
          <p:cNvPicPr/>
          <p:nvPr/>
        </p:nvPicPr>
        <p:blipFill>
          <a:blip r:embed="rId1"/>
          <a:stretch/>
        </p:blipFill>
        <p:spPr>
          <a:xfrm>
            <a:off x="1008000" y="1122480"/>
            <a:ext cx="936936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Přechodové křivky - Chlad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Obr_4"/>
          <p:cNvPicPr/>
          <p:nvPr/>
        </p:nvPicPr>
        <p:blipFill>
          <a:blip r:embed="rId1"/>
          <a:stretch/>
        </p:blipFill>
        <p:spPr>
          <a:xfrm>
            <a:off x="934920" y="1170000"/>
            <a:ext cx="953928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Vyhodnocení tepelné setrvač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6000" y="1693800"/>
          <a:ext cx="5903640" cy="4965840"/>
        </p:xfrm>
        <a:graphic>
          <a:graphicData uri="http://schemas.openxmlformats.org/drawingml/2006/table">
            <a:tbl>
              <a:tblPr/>
              <a:tblGrid>
                <a:gridCol w="2033640"/>
                <a:gridCol w="630000"/>
                <a:gridCol w="647640"/>
                <a:gridCol w="649440"/>
                <a:gridCol w="647640"/>
                <a:gridCol w="647640"/>
                <a:gridCol w="647640"/>
              </a:tblGrid>
              <a:tr h="58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6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90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τ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W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LASIK 10 – 500 x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LOR 500/110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LUX LINEAR 1200 x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ar 500/80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ion 500/9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912000" y="1693800"/>
          <a:ext cx="4032360" cy="4965840"/>
        </p:xfrm>
        <a:graphic>
          <a:graphicData uri="http://schemas.openxmlformats.org/drawingml/2006/table">
            <a:tbl>
              <a:tblPr/>
              <a:tblGrid>
                <a:gridCol w="2033640"/>
                <a:gridCol w="631800"/>
                <a:gridCol w="718920"/>
                <a:gridCol w="648000"/>
              </a:tblGrid>
              <a:tr h="58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ch6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ch90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τ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W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,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LASIK 10 – 500 x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LOR 500/110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LUX LINEAR 1200 x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ar 500/80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ion 500/9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7"/>
          <p:cNvSpPr/>
          <p:nvPr/>
        </p:nvSpPr>
        <p:spPr>
          <a:xfrm>
            <a:off x="2519280" y="1079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Nábě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920000" y="1079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Chladnu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76360" y="217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Porovnání konstrukčních vlastn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15920" y="1063800"/>
            <a:ext cx="11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Zvolená 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28800" y="1587600"/>
          <a:ext cx="9461520" cy="5532480"/>
        </p:xfrm>
        <a:graphic>
          <a:graphicData uri="http://schemas.openxmlformats.org/drawingml/2006/table">
            <a:tbl>
              <a:tblPr/>
              <a:tblGrid>
                <a:gridCol w="1182600"/>
                <a:gridCol w="1095480"/>
                <a:gridCol w="4454280"/>
                <a:gridCol w="922320"/>
                <a:gridCol w="1806840"/>
              </a:tblGrid>
              <a:tr h="1158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ýrob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ruh těles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značení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ový tepelný výkon [W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ozměry HxVxD [mm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6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Člán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3 500/110 – 10 článků (KALOR 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 x 58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YL 500/130 – 10 článků (STY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 x 58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OL C3 – 10 článků (ATO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7 x 600 x 4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X 500 – 10 článků (VO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690 x 8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 500/80 – 10 článků (G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590 x 8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EHND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LESTON 3050 (CHARLESTO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 x 500 x 4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M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4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RM X2 Profil 10-500x1000 (THERM X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DER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GATREND K 10-500x1000 (K PROFI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M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YGIENE 10-600x1000 (HYGIEN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x 6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IN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SA 11-500x1000 (SENS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b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INGO (SWINGO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 x 1210 x 6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OL 1160 x 600 (COO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 x 1152 x 6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ASC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M 11101-08 (BM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4 x 1186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RI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O-N 1160/600 (PRIMO-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x 116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LUX LINEAR COMFORT 1220/600 (KLT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 x 122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2:56:52Z</dcterms:created>
  <dc:creator>Jindřich Boháč</dc:creator>
  <dc:description/>
  <dc:language>en-US</dc:language>
  <cp:lastModifiedBy>Jindřich Boháč</cp:lastModifiedBy>
  <cp:lastPrinted>2015-05-14T10:56:37Z</cp:lastPrinted>
  <dcterms:modified xsi:type="dcterms:W3CDTF">2016-10-11T07:14:29Z</dcterms:modified>
  <cp:revision>476</cp:revision>
  <dc:subject/>
  <dc:title>Snímek 1</dc:title>
</cp:coreProperties>
</file>