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675-00E2-4D56-B890-AB22D1FB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D58-0443-45AC-B8D8-A9536C53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C28-850D-4DE3-BDE4-4C4FD5FC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057-49A7-4749-BC4F-C627364F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0505-E3B0-4FAC-8003-2704730F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A15C-E45B-41BB-A041-6FC5CB90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5A62-082E-4BFA-A25B-FDF57DE5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7B31-600B-42D4-A44B-D7D5920F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6875-23B7-41CB-9E7F-352BCC07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5F5D-B2CA-4708-8359-72A6AF91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B78F-B9A3-4D79-9480-FECC6D49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D89-6185-41EB-987D-422EB248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0344-FB40-49C5-9978-5B173A3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A929-22E3-43AE-A87A-58B2D2BB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1672-1B66-4DBC-9981-F580F406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0D79-FDBA-4699-B2DC-9EDCB8CB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CB5F-57B0-4902-AF49-311FB360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2CB9-9BF1-46F3-91DD-A53C1AF2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91C3-BF69-4C92-BCB1-78EAE15C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AC0B-FB62-4C69-A064-473B462E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A6A5-DB94-4ED2-BF01-8821380D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1B6E-9071-4D33-A4A1-2ECA02C0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B63-7F6A-47E3-B89A-0B8F0039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DD22-BBCC-4284-806F-4CBE9044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11403-3F9C-4E14-8744-EACF5EBF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644D-53ED-4473-AC81-79049A94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98E5-79C7-4BF9-87AC-C73D8527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1772-E99D-4ED9-B8AE-40FCB7D2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7F99-99D4-47C4-8F47-7E5B39B5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A1EB-FBC1-4EC4-BD19-7A2E8AFB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F42EB-0E45-4BA4-885D-C1DF6B7B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9F0C2-F115-4DA0-963F-7EFEA025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A486B-A512-49B5-B6E0-8DD36909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755-1B7E-46D4-B71D-307E1AD8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6B9CA-4826-401F-815A-087B4D86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59A95-8BA2-4000-968A-14531E01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49EED-1AB9-496E-9D14-C0BF20A8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0E8F-6A03-451B-A46C-83180DF0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3A9F-9C04-410A-9148-76A19FF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73E3F-2076-42F4-8930-ABB9FF11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A8A2-A0ED-4593-B24D-29BEFD8C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5C36-CFE2-40E0-B193-EC2C1E26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1CB3-B119-4CC6-A2E4-B97266C8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0CB-36EC-484F-B76D-B015F8F6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23B-D9DC-4F84-A8FB-5F003C79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306-7269-43F1-8DF4-97921A4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21B-E2A7-4A65-921D-E39A061B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AD3-381D-44FE-BEC4-A1BCED36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CDF3-F7E8-49F2-8F14-5B9C6FAA0B70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DB78-F791-4FB1-AE5B-97B1B543309B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765F-0BCD-460F-B402-CB0F01034667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1E46-A21C-4241-9419-6EC95D81A44E}" type="slidenum">
              <a:rPr b="1" lang="cs-CZ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V rámci OPŽP, Prioritní osy 2, Specifický cíl 2.1 (kotlíkové dotace) má být do roku 2020 UTRACENO 9 mld. Kč na výměnu starých kotlů na PP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6,5 mld. na samotnou výměnu kotlů        2,5 mld. na administraci projekt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 Black"/>
              </a:rPr>
              <a:t>     </a:t>
            </a:r>
            <a:r>
              <a:rPr b="1" lang="cs-CZ" sz="1400" spc="-1" strike="noStrike">
                <a:solidFill>
                  <a:srgbClr val="003300"/>
                </a:solidFill>
                <a:latin typeface="Arial"/>
                <a:ea typeface="Arial"/>
              </a:rPr>
              <a:t>na ověřování kvality podporovaných zdrojů je tedy dostatek financí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 případě nejasností okolo kvality podporovaného zdroje je v podkladech k Programu navržen následující postup (žádost o zápis do seznamu výrobků)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c3260c"/>
              </a:buClr>
              <a:buSzPct val="13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12745"/>
                </a:solidFill>
                <a:latin typeface="Calibri"/>
                <a:ea typeface="Times New Roman"/>
              </a:rPr>
              <a:t>jsem si vědom(a), že v případě podezření na nesplnění podmínek Programů, je Státní fond životního prostředí ČR (dále jen „Fond“) oprávněn vyžádat si jakékoliv další relevantní podklady k danému výrobku k nahlédnutí, a to včetně např. zkušebních protokolů, z nichž byly deklarované parametry převzaty, případně zadat provedení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kontrolního posouzení výrobku v nezávislé akreditované zkušební laboratoři dle příslušných právních požadavků a norem platných pro daný typ výrobku. Bude-li porušení podmínek Programů prokázáno, bude zápis dotčeného výrobku zrušen a veškeré výlohy spojené s kontrolním posouzením výrobku budou vymáhány po žadateli o zápis výrobu do seznamu výrobků a technologií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04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Podle odhadu až 40 % podporovaných kotlů na PP zapsaných v SVT nesplňuje podmínky dotace, tedy požadavky dle „ekodesignu“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3300"/>
                </a:solidFill>
                <a:latin typeface="Arial"/>
                <a:ea typeface="Arial"/>
              </a:rPr>
              <a:t>Řešen byl jeden exemplární příklad. Technologie využívaná i českými výrobci: ocelovo-litinový kotel se samočinnou dodávkou paliva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litinový prohořívací kotel + ocelový podstavec s                                               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s hořákem na P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zachovává si možnost spalovat v ručním režimu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- minimální výměník, nemožnost integrovat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dosatatečně velkou vydívku do spalovací komory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u českých výrobců dosaženo maximálně třídy 4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  <a:ea typeface="Arial"/>
              </a:rPr>
              <a:t>- zahraniční výrobce deklaruje ekodesign a by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600"/>
                </a:solidFill>
                <a:latin typeface="Arial Black"/>
              </a:rPr>
              <a:t>                                                  </a:t>
            </a:r>
            <a:r>
              <a:rPr b="1" lang="cs-CZ" sz="1400" spc="-1" strike="noStrike">
                <a:solidFill>
                  <a:srgbClr val="003300"/>
                </a:solidFill>
                <a:latin typeface="Arial Black"/>
              </a:rPr>
              <a:t>zapsán do SV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2477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Byl podán podnět na SFŽP, po několika urgencích Fond zakoupil kotel a v souladu se schváleným postupem nechal provést zkoušku u české akreditované laboratoř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Zkoumaný kotel má jako hlavní palivo uvedeno </a:t>
            </a:r>
            <a:r>
              <a:rPr b="1" lang="cs-CZ" sz="1800" spc="-1" strike="noStrike">
                <a:solidFill>
                  <a:srgbClr val="003300"/>
                </a:solidFill>
                <a:latin typeface="Arial"/>
                <a:ea typeface="Arial"/>
              </a:rPr>
              <a:t>černé uhlí, doplňková paliva hnědé uhlí a dřevní pele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Výledky : u žádného paliva nebyly splněny požadavky na ekodesig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00"/>
                </a:solidFill>
                <a:latin typeface="Trebuchet MS"/>
              </a:rPr>
              <a:t>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hnědého uhlí a dřevních pelet potvrzena třída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               </a:t>
            </a:r>
            <a:r>
              <a:rPr b="0" lang="cs-CZ" sz="2000" spc="-1" strike="noStrike">
                <a:solidFill>
                  <a:srgbClr val="003300"/>
                </a:solidFill>
                <a:latin typeface="Arial"/>
                <a:ea typeface="Arial"/>
              </a:rPr>
              <a:t>u černého uhlí  nesplněna třída 3 (podmínka pro uvedení na trh) </a:t>
            </a:r>
            <a:r>
              <a:rPr b="0" lang="cs-CZ" sz="20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  <p:pic>
        <p:nvPicPr>
          <p:cNvPr id="221" name="Obrázek 3" descr=""/>
          <p:cNvPicPr/>
          <p:nvPr/>
        </p:nvPicPr>
        <p:blipFill>
          <a:blip r:embed="rId3"/>
          <a:stretch/>
        </p:blipFill>
        <p:spPr>
          <a:xfrm>
            <a:off x="1008000" y="2924280"/>
            <a:ext cx="72471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Fond ustoupil od deklarovaného postupu (v té době bylo podáno cca 4 tisíce žádostí na zmíněný kotel) a vyzval výrobce, aby doložil splnění požadavků na ekodesign od třetí autorizované osoby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Výrobce v požadovaném termínu dodal osvědčení o splnění podmínek (doklad formátu 1 x A4 bez přiložení zkušebního protokolu) pouze pro doplňková paliva (hnědé uhlí a dřevní pelety), pro preferenční palivo černé uhlí doklad nepředložil a byla mu udělen  odklad do konce roku. Doklad vypracoval zkušebna v Polsku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Argument MŽP : nemáme specialisty na řešení problém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300"/>
                </a:solidFill>
                <a:latin typeface="Arial"/>
                <a:ea typeface="Arial"/>
              </a:rPr>
              <a:t>Splnění podmínek ekodesignu spadá do kompetence SEI (ukládá jí to zákon 406/2000 o hospodaření energií). SEI na podaný podnět nereaguje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Pro druhé kolo je zapotřebí vyřešit dva základní problémy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1. Jak bude postupováno v obdobných případe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2. Je vůbec možné podporovat technologii, která umožňu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    </a:t>
            </a:r>
            <a:r>
              <a:rPr b="1" lang="cs-CZ" sz="2000" spc="-1" strike="noStrike">
                <a:solidFill>
                  <a:srgbClr val="006600"/>
                </a:solidFill>
                <a:latin typeface="Arial Black"/>
              </a:rPr>
              <a:t>spalovat domovní odpady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469800" y="158760"/>
            <a:ext cx="82044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0:59:26Z</dcterms:created>
  <dc:creator>Katka</dc:creator>
  <dc:description/>
  <dc:language>en-US</dc:language>
  <cp:lastModifiedBy>Microsoft</cp:lastModifiedBy>
  <cp:lastPrinted>2015-05-18T10:37:43Z</cp:lastPrinted>
  <dcterms:modified xsi:type="dcterms:W3CDTF">2016-10-10T11:32:39Z</dcterms:modified>
  <cp:revision>36</cp:revision>
  <dc:subject/>
  <dc:title>Kateřina Lyčková</dc:title>
</cp:coreProperties>
</file>