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77B-0955-422B-9A27-73434FA6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02D-258D-43C9-8859-C7A3CCC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B64-3BFE-4A1E-B17A-4A28EAB2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4A2-868B-4FA6-9E57-3228366F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941-FABC-49D6-BC24-F4B8E7F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CE5-74B3-468C-96AD-324A27A5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A07-D449-44EF-83FD-D758991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DA9-6984-4552-9C2D-0D3F448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DC4-6C3A-4F0D-9DFB-DE7B80D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168-4E8E-49B8-8A2A-0CE91E4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831-00E9-4D61-90F7-1E798AA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FC-57AA-4071-A1F9-B873601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BD9-3FAB-4A57-820F-B19FE6AE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713800" cy="4032360"/>
          </a:xfrm>
          <a:prstGeom prst="rect">
            <a:avLst/>
          </a:prstGeom>
          <a:solidFill>
            <a:srgbClr val="0000cc"/>
          </a:solidFill>
          <a:ln w="572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ěkteré poznatk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z </a:t>
            </a:r>
            <a:br>
              <a:rPr sz="5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omerčního)</a:t>
            </a:r>
            <a:br>
              <a:rPr sz="28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ěření ITN</a:t>
            </a:r>
            <a:br>
              <a:rPr sz="8000"/>
            </a:br>
            <a:br>
              <a:rPr sz="9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7040" y="5445000"/>
            <a:ext cx="306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uděk Mare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SI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udek.mares@fs.cvu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549360"/>
            <a:ext cx="7848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977080" cy="375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080" y="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MĚŘENÍ INDIKÁTORU V KALORIMETRICKÉ KOMO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280" y="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ZNAM TEPLOT BĚHEM MĚŘENÍ - KVALITNÍ IND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8160" y="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KVALITNÍ INDIKÁTOR – NESPLŇUJE PŘEDEPSANÉ „c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0"/>
            <a:ext cx="79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UMÍSTĚNÝ V OBLASTI VYSOKÉ POVRCHOVÉ TEPLOT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400" y="0"/>
            <a:ext cx="78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 ČSN EN 83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ísto instalace musí být tam, kde teplonosná látka prošla od 20 % do 3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celkové aktivní otopné ploch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19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9920" y="3213000"/>
            <a:ext cx="249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67280" y="1844640"/>
            <a:ext cx="1225440" cy="792360"/>
          </a:xfrm>
          <a:prstGeom prst="ellipse">
            <a:avLst/>
          </a:prstGeom>
          <a:noFill/>
          <a:ln w="3816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43160" y="907920"/>
            <a:ext cx="4921200" cy="521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720" y="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OROVÁNÍ“ OBJEDNATELE S UMÍST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VYCHÁZEL SOUČINITEL „c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560" y="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EXTERNÍM SEZ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 JE OVLIVNĚ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LÁN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TĚN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2000" cy="519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8040" y="33336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Vavřička, R.: Povrchová teplota deskových OT, in: Topin 2/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76320"/>
            <a:ext cx="9144000" cy="588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040" y="6516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STĚNÍ INDIKÁTORU A STŘEDNÍ TEPLOTY NA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576360"/>
            <a:ext cx="66978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240" y="1700280"/>
            <a:ext cx="862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VODY PRO STANOVOVÁNÍ SPOTŘEBOVANÉHO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DNOTLIVÝMI BYTY V BYTOVÝCH DOM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SPRAVEDLIVÉ ROZÚČTOVÁNÍ NÁKLADŮ NA VYTÁP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ÚSPORY TEPLA („když platím podle toho co spotřebuji, tak šetřím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02136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9440" y="835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VĚ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1844640"/>
            <a:ext cx="71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OVENÍ SPOTŘEBY TEPLA POUŽITÍM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OVLIVNĚNO MNOHA OBTÍŽNĚ PODCHYTITELNÝMI FA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ZATÍŽENO ŘADOU NEZANEDBATELNÝCH CHY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2997360"/>
                <a:ext cx="403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96360" y="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TEPLONOSNOU LÁT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6360" y="558972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NELZE POUŽÍT U VERTIKÁLNÍ SOUSTAV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00000" y="1989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080" y="1628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ŮST SPOTŘEBNÍ HODNOTY 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692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ANÉ TE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9280" y="981000"/>
                <a:ext cx="4464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9280" y="1125360"/>
            <a:ext cx="792360" cy="432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9440" y="13413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YCHLOST ZÁZN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KÁT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718160" y="335772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HODNOCOVACÍ SOUČI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ÁKLADŮ NA VYTÁP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 TEPELNÝ STYK SNÍMAČ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1974960"/>
                <a:ext cx="4464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≈</m:t>
                    </m:r>
                    <m:r>
                      <m:t xml:space="preserve">ΔQ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zduch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43640" y="1957320"/>
                <a:ext cx="1008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42920" y="4437000"/>
                <a:ext cx="3168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6360" y="31417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INITEL „c“ INDIKÁT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YJADŘUJE JAK SE TEPL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ĚŘENÉ INDIK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BLIŽUJÍ SKUTEČNÝ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080" y="0"/>
            <a:ext cx="83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TEPLA PŘEDANÉHO PŘES TEPLOSMĚNNOU PLO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59280" y="4410000"/>
                <a:ext cx="32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u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zduc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i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56000" y="3213000"/>
                <a:ext cx="1655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222640"/>
            <a:ext cx="5688000" cy="24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2781360"/>
            <a:ext cx="431640" cy="431640"/>
          </a:xfrm>
          <a:prstGeom prst="ellipse">
            <a:avLst/>
          </a:prstGeom>
          <a:noFill/>
          <a:ln w="28440">
            <a:solidFill>
              <a:srgbClr val="fe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720" y="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DEPSANÉ UMÍSTĚNÍ INDIKÁTORU 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981000"/>
            <a:ext cx="30970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7440" y="1432080"/>
            <a:ext cx="2011680" cy="356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26160" y="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ÉMA DVOUČIDLOVÉHO INDIKÁT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5560" y="1628640"/>
            <a:ext cx="542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ROKY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OBRÝ DOTYK SENZORU 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EPLOTNÍ ODIZOLOVÁNÍ SENZORU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ČASOVOU STÁLOST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ŘESNOU ELEKTRO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RVANLIVOST BA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25:39Z</dcterms:created>
  <dc:creator>Luděk Mareš</dc:creator>
  <dc:description/>
  <dc:language>en-US</dc:language>
  <cp:lastModifiedBy>L</cp:lastModifiedBy>
  <dcterms:modified xsi:type="dcterms:W3CDTF">2016-10-13T19:26:37Z</dcterms:modified>
  <cp:revision>55</cp:revision>
  <dc:subject/>
  <dc:title>Snímek 1</dc:title>
</cp:coreProperties>
</file>