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708-1AFB-4D91-9397-3D0BAF48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26AE-B42A-4946-B08E-B32EEFC5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559-FFDA-424E-A0C3-D023AC39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B8F-A89C-4B62-B850-69CD3E2E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C999-118D-47B6-9875-58AD5500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91C3-63B9-4FB2-B8C4-C9D13C9B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E091-0F12-41E2-8FF3-DA2FD5A6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08A0-CFAB-4E49-BBBA-18B1D7AF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3975-3A68-433C-BDA8-8379F12E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588C-983A-4203-B51D-DE4DAA78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7D02-14EA-4A59-A67C-327F7390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0611-E03E-40D3-BFBD-EEE4F2D4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E94F-5B21-43CA-9A0F-0D542CDA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E68A-D0D3-4502-8CA7-EA3B84C3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A6D2-BC66-4893-9BCD-58A5A82A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B0A8-EF24-40E8-A454-F1B98EDD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1CFE-8175-4817-9805-632C4404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B605C-E3DC-4336-866C-8C048D84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FC952-059C-41B2-ABBF-D22DE673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C1B8D-743D-40C4-A300-478387CB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CA7E4-1F19-478F-B6F9-72260577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19BB9-694B-414E-81FD-09E77A01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69D-BB6B-48F8-9747-5B97DE1D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DA98D-CF80-456E-8B1E-A1597E58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5FBFE-FEE3-4AA8-8813-6ED42822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C611B-066D-4607-B51D-9503DCFA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789D2-127E-465E-A050-0B1FA5E8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61E54-C8A0-400E-94C5-47D121B9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9B43D-854D-4DB9-BECF-317E590A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D1362-4FD7-4332-9C86-80DD6B16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7D3EB-BAFD-45E5-AD7A-4E9DBCB3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1C483-90BF-46E3-ACB3-096FBFF3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5D2AE-B97B-4665-AE13-40863D76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101-121E-415F-B69C-2700DB47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DE1CD-5144-4C62-B4D7-433DEC3B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167FA-D6A4-4F35-A79C-BB754032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F7043-D4E8-4CDC-B051-16A48AB1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B2C0B-6220-4117-9492-86E05047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855BB-A504-4051-901E-057F2BF4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6306E-DA02-4F77-89B3-51EB9EE9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7E001-671D-492E-B703-B23DBDBD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13E91-47B9-48BB-8445-96B570B1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EA4BA-43F1-442C-A767-C905FB33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197-6BC3-4C02-80DF-5D93D09F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F4A-EFCD-41B8-8B37-F6DB80AD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A136-22FF-40E4-A4D6-8484A851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AF12-BC8A-402D-B53B-23DA5E49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B8A1-31D0-4BB9-A7E4-1C3168B6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EF05-8EB2-4CA6-A7DC-24364D880F55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A61F-68F2-42DD-AA6B-53281172E0BF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68A3-CE51-408B-9A8B-56F737A6BB3A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8691-0618-4B2D-B06B-7FE6AD199079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 Black"/>
              </a:rPr>
              <a:t>V rámci OPŽP, Prioritní osy 2, Specifický cíl 2.1 (kotlíkové dotace) má být do roku 2020 UTRACENO 9 mld. Kč na výměnu starých kotlů na PP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 Black"/>
              </a:rPr>
              <a:t>6,5 mld. na samotnou výměnu kotlů        2,5 mld. na administraci projektu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 Black"/>
              </a:rPr>
              <a:t>     </a:t>
            </a:r>
            <a:r>
              <a:rPr b="1" lang="cs-CZ" sz="1400" spc="-1" strike="noStrike">
                <a:solidFill>
                  <a:srgbClr val="003300"/>
                </a:solidFill>
                <a:latin typeface="Arial"/>
                <a:ea typeface="Arial"/>
              </a:rPr>
              <a:t>na ověřování kvality podporovaných zdrojů je tedy dostatek financí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V případě nejasností okolo kvality podporovaného zdroje je v podkladech k Programu navržen následující postup (žádost o zápis do seznamu výrobků)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c3260c"/>
              </a:buClr>
              <a:buSzPct val="13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12745"/>
                </a:solidFill>
                <a:latin typeface="Calibri"/>
                <a:ea typeface="Times New Roman"/>
              </a:rPr>
              <a:t>jsem si vědom(a), že v případě podezření na nesplnění podmínek Programů, je Státní fond životního prostředí ČR (dále jen „Fond“) oprávněn vyžádat si jakékoliv další relevantní podklady k danému výrobku k nahlédnutí, a to včetně např. zkušebních protokolů, z nichž byly deklarované parametry převzaty, případně zadat provedení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kontrolního posouzení výrobku v nezávislé akreditované zkušební laboratoři dle příslušných právních požadavků a norem platných pro daný typ výrobku. Bude-li porušení podmínek Programů prokázáno, bude zápis dotčeného výrobku zrušen a veškeré výlohy spojené s kontrolním posouzením výrobku budou vymáhány po žadateli o zápis výrobu do seznamu výrobků a technologií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04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785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3300"/>
                </a:solidFill>
                <a:latin typeface="Arial"/>
                <a:ea typeface="Arial"/>
              </a:rPr>
              <a:t>Podle odhadu až 40 % podporovaných kotlů na PP zapsaných v SVT nesplňuje podmínky dotace, tedy požadavky dle „ekodesignu“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3300"/>
                </a:solidFill>
                <a:latin typeface="Arial"/>
                <a:ea typeface="Arial"/>
              </a:rPr>
              <a:t>Řešen byl jeden exemplární příklad. Technologie využívaná i českými výrobci: ocelovo-litinový kotel se samočinnou dodávkou paliva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- litinový prohořívací kotel + ocelový podstavec s                                                      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s hořákem na PP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- zachovává si možnost spalovat v ručním režimu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- minimální výměník, nemožnost integrovat       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dosatatečně velkou vydívku do spalovací komory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6600"/>
                </a:solidFill>
                <a:latin typeface="Arial Black"/>
              </a:rPr>
              <a:t>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  <a:ea typeface="Arial"/>
              </a:rPr>
              <a:t>- u českých výrobců dosaženo maximálně třídy 4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  <a:ea typeface="Arial"/>
              </a:rPr>
              <a:t>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  <a:ea typeface="Arial"/>
              </a:rPr>
              <a:t>- zahraniční výrobce deklaruje ekodesign a by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6600"/>
                </a:solidFill>
                <a:latin typeface="Arial Black"/>
              </a:rPr>
              <a:t>  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zapsán do SVT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6600"/>
                </a:solidFill>
                <a:latin typeface="Trebuchet MS"/>
              </a:rPr>
              <a:t>    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Rectangle 2" descr=""/>
          <p:cNvPicPr/>
          <p:nvPr/>
        </p:nvPicPr>
        <p:blipFill>
          <a:blip r:embed="rId2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24778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00"/>
                </a:solidFill>
                <a:latin typeface="Arial"/>
                <a:ea typeface="Arial"/>
              </a:rPr>
              <a:t>Byl podán podnět na SFŽP, po několika urgencích Fond zakoupil kotel a v souladu se schváleným postupem nechal provést zkoušku u české akreditované laboratoř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00"/>
                </a:solidFill>
                <a:latin typeface="Arial"/>
                <a:ea typeface="Arial"/>
              </a:rPr>
              <a:t>Zkoumaný kotel má jako hlavní palivo uvedeno </a:t>
            </a:r>
            <a:r>
              <a:rPr b="1" lang="cs-CZ" sz="1800" spc="-1" strike="noStrike">
                <a:solidFill>
                  <a:srgbClr val="003300"/>
                </a:solidFill>
                <a:latin typeface="Arial"/>
                <a:ea typeface="Arial"/>
              </a:rPr>
              <a:t>černé uhlí, doplňková paliva hnědé uhlí a dřevní pele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Trebuchet MS"/>
              </a:rPr>
              <a:t>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Trebuchet MS"/>
              </a:rPr>
              <a:t>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Výledky : u žádného paliva nebyly splněny požadavky na ekodesig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00"/>
                </a:solidFill>
                <a:latin typeface="Trebuchet MS"/>
              </a:rPr>
              <a:t>              </a:t>
            </a: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u hnědého uhlí a dřevních pelet potvrzena třída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               </a:t>
            </a: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u černého uhlí  nesplněna třída 3 (podmínka pro uvedení na trh) </a:t>
            </a:r>
            <a:r>
              <a:rPr b="0" lang="cs-CZ" sz="2000" spc="-1" strike="noStrike">
                <a:solidFill>
                  <a:srgbClr val="0066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  <p:pic>
        <p:nvPicPr>
          <p:cNvPr id="221" name="Obrázek 3" descr=""/>
          <p:cNvPicPr/>
          <p:nvPr/>
        </p:nvPicPr>
        <p:blipFill>
          <a:blip r:embed="rId3"/>
          <a:stretch/>
        </p:blipFill>
        <p:spPr>
          <a:xfrm>
            <a:off x="1008000" y="2924280"/>
            <a:ext cx="72471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Fond ustoupil od deklarovaného postupu (v té době bylo podáno cca 4 tisíce žádostí na zmíněný kotel) a vyzval výrobce, aby doložil splnění požadavků na ekodesign od třetí autorizované osoby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Výrobce v požadovaném termínu dodal osvědčení o splnění podmínek (doklad formátu 1 x A4 bez přiložení zkušebního protokolu) pouze pro doplňková paliva (hnědé uhlí a dřevní pelety), pro preferenční palivo černé uhlí doklad nepředložil a byla mu udělen  odklad do konce roku. Doklad vypracoval zkušebna v Polsku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Argument MŽP : nemáme specialisty na řešení problému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Splnění podmínek ekodesignu spadá do kompetence SEI (ukládá jí to zákon 406/2000 o hospodaření energií). SEI na podaný podnět nereaguje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Pro druhé kolo je zapotřebí vyřešit dva základní problémy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1. Jak bude postupováno v obdobných případe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2. Je vůbec možné podporovat technologii, která umožňuj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    </a:t>
            </a: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spalovat domovní odpady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20:59:26Z</dcterms:created>
  <dc:creator>Katka</dc:creator>
  <dc:description/>
  <dc:language>en-US</dc:language>
  <cp:lastModifiedBy>Microsoft</cp:lastModifiedBy>
  <cp:lastPrinted>2015-05-18T10:37:43Z</cp:lastPrinted>
  <dcterms:modified xsi:type="dcterms:W3CDTF">2016-10-10T11:32:39Z</dcterms:modified>
  <cp:revision>36</cp:revision>
  <dc:subject/>
  <dc:title>Kateřina Lyčková</dc:title>
</cp:coreProperties>
</file>